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1.png" ContentType="image/png"/>
  <Override PartName="/ppt/media/image10.wmf" ContentType="image/x-wmf"/>
  <Override PartName="/ppt/media/image2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94920" y="-211320"/>
            <a:ext cx="754236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72496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28600" y="4150080"/>
            <a:ext cx="872496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94920" y="-211320"/>
            <a:ext cx="754236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5772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99440" y="1523880"/>
            <a:ext cx="425772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228600" y="4150080"/>
            <a:ext cx="425772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99440" y="4150080"/>
            <a:ext cx="425772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94920" y="-211320"/>
            <a:ext cx="754236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28090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178440" y="1523880"/>
            <a:ext cx="28090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128280" y="1523880"/>
            <a:ext cx="28090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228600" y="4150080"/>
            <a:ext cx="28090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178440" y="4150080"/>
            <a:ext cx="28090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128280" y="4150080"/>
            <a:ext cx="28090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94920" y="-211320"/>
            <a:ext cx="754236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228600" y="1523880"/>
            <a:ext cx="8724960" cy="502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94920" y="-211320"/>
            <a:ext cx="754236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72496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94920" y="-211320"/>
            <a:ext cx="754236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5772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99440" y="1523880"/>
            <a:ext cx="425772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94920" y="-211320"/>
            <a:ext cx="754236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294920" y="-211320"/>
            <a:ext cx="7542360" cy="663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94920" y="-211320"/>
            <a:ext cx="754236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5772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99440" y="1523880"/>
            <a:ext cx="425772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228600" y="4150080"/>
            <a:ext cx="425772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94920" y="-211320"/>
            <a:ext cx="754236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228600" y="1523880"/>
            <a:ext cx="8724960" cy="502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94920" y="-211320"/>
            <a:ext cx="754236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5772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99440" y="1523880"/>
            <a:ext cx="425772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99440" y="4150080"/>
            <a:ext cx="425772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94920" y="-211320"/>
            <a:ext cx="754236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5772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99440" y="1523880"/>
            <a:ext cx="425772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228600" y="4150080"/>
            <a:ext cx="872496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94920" y="-211320"/>
            <a:ext cx="754236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72496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228600" y="4150080"/>
            <a:ext cx="872496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94920" y="-211320"/>
            <a:ext cx="754236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5772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99440" y="1523880"/>
            <a:ext cx="425772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228600" y="4150080"/>
            <a:ext cx="425772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99440" y="4150080"/>
            <a:ext cx="425772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94920" y="-211320"/>
            <a:ext cx="754236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28090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178440" y="1523880"/>
            <a:ext cx="28090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128280" y="1523880"/>
            <a:ext cx="28090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228600" y="4150080"/>
            <a:ext cx="28090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178440" y="4150080"/>
            <a:ext cx="28090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128280" y="4150080"/>
            <a:ext cx="28090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94920" y="-211320"/>
            <a:ext cx="754236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72496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94920" y="-211320"/>
            <a:ext cx="754236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5772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99440" y="1523880"/>
            <a:ext cx="425772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94920" y="-211320"/>
            <a:ext cx="754236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294920" y="-211320"/>
            <a:ext cx="7542360" cy="663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94920" y="-211320"/>
            <a:ext cx="754236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5772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9440" y="1523880"/>
            <a:ext cx="425772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4150080"/>
            <a:ext cx="425772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94920" y="-211320"/>
            <a:ext cx="754236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5772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9440" y="1523880"/>
            <a:ext cx="425772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99440" y="4150080"/>
            <a:ext cx="425772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94920" y="-211320"/>
            <a:ext cx="754236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5772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99440" y="1523880"/>
            <a:ext cx="425772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4150080"/>
            <a:ext cx="872496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488880"/>
            <a:ext cx="438120" cy="474840"/>
          </a:xfrm>
          <a:custGeom>
            <a:avLst/>
            <a:gdLst>
              <a:gd name="textAreaLeft" fmla="*/ 360 w 438120"/>
              <a:gd name="textAreaRight" fmla="*/ 437760 w 438120"/>
              <a:gd name="textAreaTop" fmla="*/ 360 h 474840"/>
              <a:gd name="textAreaBottom" fmla="*/ 474480 h 474840"/>
            </a:gdLst>
            <a:ahLst/>
            <a:rect l="textAreaLeft" t="textAreaTop" r="textAreaRight" b="textAreaBottom"/>
            <a:pathLst>
              <a:path w="21600" h="23409">
                <a:moveTo>
                  <a:pt x="78" y="0"/>
                </a:moveTo>
                <a:arcTo wR="78" hR="78" stAng="16200000" swAng="-5400000"/>
                <a:lnTo>
                  <a:pt x="0" y="23331"/>
                </a:lnTo>
                <a:arcTo wR="78" hR="78" stAng="10800000" swAng="-5400000"/>
                <a:lnTo>
                  <a:pt x="21522" y="23409"/>
                </a:lnTo>
                <a:arcTo wR="78" hR="78" stAng="5400000" swAng="-5400000"/>
                <a:lnTo>
                  <a:pt x="21600" y="78"/>
                </a:lnTo>
                <a:arcTo wR="78" hR="78" stAng="0" swAng="-5400000"/>
                <a:close/>
              </a:path>
            </a:pathLst>
          </a:custGeom>
          <a:solidFill>
            <a:srgbClr val="4b4e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488880"/>
            <a:ext cx="328320" cy="474840"/>
          </a:xfrm>
          <a:custGeom>
            <a:avLst/>
            <a:gdLst>
              <a:gd name="textAreaLeft" fmla="*/ 360 w 328320"/>
              <a:gd name="textAreaRight" fmla="*/ 327960 w 328320"/>
              <a:gd name="textAreaTop" fmla="*/ 360 h 474840"/>
              <a:gd name="textAreaBottom" fmla="*/ 474480 h 474840"/>
            </a:gdLst>
            <a:ahLst/>
            <a:rect l="textAreaLeft" t="textAreaTop" r="textAreaRight" b="textAreaBottom"/>
            <a:pathLst>
              <a:path w="21600" h="31229">
                <a:moveTo>
                  <a:pt x="104" y="0"/>
                </a:moveTo>
                <a:arcTo wR="104" hR="104" stAng="16200000" swAng="-5400000"/>
                <a:lnTo>
                  <a:pt x="0" y="31125"/>
                </a:lnTo>
                <a:arcTo wR="104" hR="104" stAng="10800000" swAng="-5400000"/>
                <a:lnTo>
                  <a:pt x="21496" y="31229"/>
                </a:lnTo>
                <a:arcTo wR="104" hR="104" stAng="5400000" swAng="-5400000"/>
                <a:lnTo>
                  <a:pt x="21600" y="104"/>
                </a:lnTo>
                <a:arcTo wR="104" hR="104" stAng="0" swAng="-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4b4eb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14400"/>
            <a:ext cx="422280" cy="474840"/>
          </a:xfrm>
          <a:custGeom>
            <a:avLst/>
            <a:gdLst>
              <a:gd name="textAreaLeft" fmla="*/ 360 w 422280"/>
              <a:gd name="textAreaRight" fmla="*/ 421920 w 422280"/>
              <a:gd name="textAreaTop" fmla="*/ 360 h 474840"/>
              <a:gd name="textAreaBottom" fmla="*/ 474480 h 474840"/>
            </a:gdLst>
            <a:ahLst/>
            <a:rect l="textAreaLeft" t="textAreaTop" r="textAreaRight" b="textAreaBottom"/>
            <a:pathLst>
              <a:path w="21600" h="24286">
                <a:moveTo>
                  <a:pt x="81" y="0"/>
                </a:moveTo>
                <a:arcTo wR="81" hR="81" stAng="16200000" swAng="-5400000"/>
                <a:lnTo>
                  <a:pt x="0" y="24205"/>
                </a:lnTo>
                <a:arcTo wR="81" hR="81" stAng="10800000" swAng="-5400000"/>
                <a:lnTo>
                  <a:pt x="21519" y="24286"/>
                </a:lnTo>
                <a:arcTo wR="81" hR="81" stAng="5400000" swAng="-5400000"/>
                <a:lnTo>
                  <a:pt x="21600" y="81"/>
                </a:lnTo>
                <a:arcTo wR="81" hR="81" stAng="0" swAng="-5400000"/>
                <a:close/>
              </a:path>
            </a:pathLst>
          </a:custGeom>
          <a:solidFill>
            <a:srgbClr val="76b7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4400" y="914400"/>
            <a:ext cx="368280" cy="474840"/>
          </a:xfrm>
          <a:custGeom>
            <a:avLst/>
            <a:gdLst>
              <a:gd name="textAreaLeft" fmla="*/ 360 w 368280"/>
              <a:gd name="textAreaRight" fmla="*/ 367920 w 368280"/>
              <a:gd name="textAreaTop" fmla="*/ 360 h 474840"/>
              <a:gd name="textAreaBottom" fmla="*/ 474480 h 474840"/>
            </a:gdLst>
            <a:ahLst/>
            <a:rect l="textAreaLeft" t="textAreaTop" r="textAreaRight" b="textAreaBottom"/>
            <a:pathLst>
              <a:path w="21600" h="27844">
                <a:moveTo>
                  <a:pt x="93" y="0"/>
                </a:moveTo>
                <a:arcTo wR="93" hR="93" stAng="16200000" swAng="-5400000"/>
                <a:lnTo>
                  <a:pt x="0" y="27751"/>
                </a:lnTo>
                <a:arcTo wR="93" hR="93" stAng="10800000" swAng="-5400000"/>
                <a:lnTo>
                  <a:pt x="21507" y="27844"/>
                </a:lnTo>
                <a:arcTo wR="93" hR="93" stAng="5400000" swAng="-5400000"/>
                <a:lnTo>
                  <a:pt x="21600" y="93"/>
                </a:lnTo>
                <a:arcTo wR="93" hR="93" stAng="0" swAng="-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76b7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38080"/>
            <a:ext cx="560160" cy="422280"/>
          </a:xfrm>
          <a:prstGeom prst="roundRect">
            <a:avLst>
              <a:gd name="adj" fmla="val 375"/>
            </a:avLst>
          </a:prstGeom>
          <a:gradFill rotWithShape="0">
            <a:gsLst>
              <a:gs pos="0">
                <a:srgbClr val="c481c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380880"/>
            <a:ext cx="31680" cy="1052640"/>
          </a:xfrm>
          <a:custGeom>
            <a:avLst/>
            <a:gdLst>
              <a:gd name="textAreaLeft" fmla="*/ 360 w 31680"/>
              <a:gd name="textAreaRight" fmla="*/ 31320 w 31680"/>
              <a:gd name="textAreaTop" fmla="*/ 360 h 1052640"/>
              <a:gd name="textAreaBottom" fmla="*/ 1052280 h 1052640"/>
            </a:gdLst>
            <a:ahLst/>
            <a:rect l="textAreaLeft" t="textAreaTop" r="textAreaRight" b="textAreaBottom"/>
            <a:pathLst>
              <a:path w="21600" h="709888">
                <a:moveTo>
                  <a:pt x="1080" y="0"/>
                </a:moveTo>
                <a:arcTo wR="1080" hR="1080" stAng="16200000" swAng="-5400000"/>
                <a:lnTo>
                  <a:pt x="0" y="708808"/>
                </a:lnTo>
                <a:arcTo wR="1080" hR="1080" stAng="10800000" swAng="-5400000"/>
                <a:lnTo>
                  <a:pt x="20520" y="709888"/>
                </a:lnTo>
                <a:arcTo wR="1080" hR="1080" stAng="5400000" swAng="-5400000"/>
                <a:lnTo>
                  <a:pt x="21600" y="1080"/>
                </a:lnTo>
                <a:arcTo wR="1080" hR="1080" stAng="0" swAng="-5400000"/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0800000">
            <a:off x="460080" y="1221840"/>
            <a:ext cx="8683560" cy="46080"/>
          </a:xfrm>
          <a:prstGeom prst="roundRect">
            <a:avLst>
              <a:gd name="adj" fmla="val 3569"/>
            </a:avLst>
          </a:prstGeom>
          <a:gradFill rotWithShape="0">
            <a:gsLst>
              <a:gs pos="0">
                <a:srgbClr val="ffffff"/>
              </a:gs>
              <a:gs pos="100000">
                <a:srgbClr val="3333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" name="" descr=""/>
          <p:cNvPicPr/>
          <p:nvPr/>
        </p:nvPicPr>
        <p:blipFill>
          <a:blip r:embed="rId2"/>
          <a:stretch/>
        </p:blipFill>
        <p:spPr>
          <a:xfrm>
            <a:off x="8229600" y="6126120"/>
            <a:ext cx="900000" cy="731880"/>
          </a:xfrm>
          <a:prstGeom prst="rect">
            <a:avLst/>
          </a:prstGeom>
          <a:ln w="0">
            <a:noFill/>
          </a:ln>
        </p:spPr>
      </p:pic>
      <p:pic>
        <p:nvPicPr>
          <p:cNvPr id="10" name="" descr=""/>
          <p:cNvPicPr/>
          <p:nvPr/>
        </p:nvPicPr>
        <p:blipFill>
          <a:blip r:embed="rId3"/>
          <a:stretch/>
        </p:blipFill>
        <p:spPr>
          <a:xfrm>
            <a:off x="7467480" y="6124680"/>
            <a:ext cx="762120" cy="733320"/>
          </a:xfrm>
          <a:prstGeom prst="rect">
            <a:avLst/>
          </a:prstGeom>
          <a:ln w="0">
            <a:noFill/>
          </a:ln>
        </p:spPr>
      </p:pic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94920" y="-211320"/>
            <a:ext cx="754236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228600" y="1523880"/>
            <a:ext cx="872496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88"/>
              </a:spcBef>
              <a:buClr>
                <a:srgbClr val="76b749"/>
              </a:buClr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88"/>
              </a:spcBef>
              <a:buClr>
                <a:srgbClr val="c481cf"/>
              </a:buClr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88"/>
              </a:spcBef>
              <a:buClr>
                <a:srgbClr val="76b749"/>
              </a:buClr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88"/>
              </a:spcBef>
              <a:buClr>
                <a:srgbClr val="4b4eb5"/>
              </a:buClr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88"/>
              </a:spcBef>
              <a:buClr>
                <a:srgbClr val="4b4eb5"/>
              </a:buClr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88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88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290520" y="2546280"/>
            <a:ext cx="711360" cy="474840"/>
            <a:chOff x="290520" y="2546280"/>
            <a:chExt cx="711360" cy="474840"/>
          </a:xfrm>
        </p:grpSpPr>
        <p:sp>
          <p:nvSpPr>
            <p:cNvPr id="50" name=""/>
            <p:cNvSpPr/>
            <p:nvPr/>
          </p:nvSpPr>
          <p:spPr>
            <a:xfrm>
              <a:off x="290520" y="2546280"/>
              <a:ext cx="438120" cy="474840"/>
            </a:xfrm>
            <a:custGeom>
              <a:avLst/>
              <a:gdLst>
                <a:gd name="textAreaLeft" fmla="*/ 360 w 438120"/>
                <a:gd name="textAreaRight" fmla="*/ 437760 w 438120"/>
                <a:gd name="textAreaTop" fmla="*/ 360 h 474840"/>
                <a:gd name="textAreaBottom" fmla="*/ 474480 h 474840"/>
              </a:gdLst>
              <a:ahLst/>
              <a:rect l="textAreaLeft" t="textAreaTop" r="textAreaRight" b="textAreaBottom"/>
              <a:pathLst>
                <a:path w="21600" h="23409">
                  <a:moveTo>
                    <a:pt x="78" y="0"/>
                  </a:moveTo>
                  <a:arcTo wR="78" hR="78" stAng="16200000" swAng="-5400000"/>
                  <a:lnTo>
                    <a:pt x="0" y="23331"/>
                  </a:lnTo>
                  <a:arcTo wR="78" hR="78" stAng="10800000" swAng="-5400000"/>
                  <a:lnTo>
                    <a:pt x="21522" y="23409"/>
                  </a:lnTo>
                  <a:arcTo wR="78" hR="78" stAng="5400000" swAng="-5400000"/>
                  <a:lnTo>
                    <a:pt x="21600" y="78"/>
                  </a:lnTo>
                  <a:arcTo wR="78" hR="78" stAng="0" swAng="-5400000"/>
                  <a:close/>
                </a:path>
              </a:pathLst>
            </a:custGeom>
            <a:solidFill>
              <a:srgbClr val="76b7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73200" y="2546280"/>
              <a:ext cx="328680" cy="474840"/>
            </a:xfrm>
            <a:custGeom>
              <a:avLst/>
              <a:gdLst>
                <a:gd name="textAreaLeft" fmla="*/ 360 w 328680"/>
                <a:gd name="textAreaRight" fmla="*/ 328320 w 328680"/>
                <a:gd name="textAreaTop" fmla="*/ 360 h 474840"/>
                <a:gd name="textAreaBottom" fmla="*/ 474480 h 474840"/>
              </a:gdLst>
              <a:ahLst/>
              <a:rect l="textAreaLeft" t="textAreaTop" r="textAreaRight" b="textAreaBottom"/>
              <a:pathLst>
                <a:path w="21600" h="31195">
                  <a:moveTo>
                    <a:pt x="104" y="0"/>
                  </a:moveTo>
                  <a:arcTo wR="104" hR="104" stAng="16200000" swAng="-5400000"/>
                  <a:lnTo>
                    <a:pt x="0" y="31091"/>
                  </a:lnTo>
                  <a:arcTo wR="104" hR="104" stAng="10800000" swAng="-5400000"/>
                  <a:lnTo>
                    <a:pt x="21496" y="31195"/>
                  </a:lnTo>
                  <a:arcTo wR="104" hR="104" stAng="5400000" swAng="-5400000"/>
                  <a:lnTo>
                    <a:pt x="21600" y="104"/>
                  </a:lnTo>
                  <a:arcTo wR="104" hR="104" stAng="0" swAng="-5400000"/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b74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414360" y="2968560"/>
            <a:ext cx="738000" cy="474840"/>
            <a:chOff x="414360" y="2968560"/>
            <a:chExt cx="738000" cy="474840"/>
          </a:xfrm>
        </p:grpSpPr>
        <p:sp>
          <p:nvSpPr>
            <p:cNvPr id="53" name=""/>
            <p:cNvSpPr/>
            <p:nvPr/>
          </p:nvSpPr>
          <p:spPr>
            <a:xfrm>
              <a:off x="414360" y="2968560"/>
              <a:ext cx="422280" cy="474840"/>
            </a:xfrm>
            <a:custGeom>
              <a:avLst/>
              <a:gdLst>
                <a:gd name="textAreaLeft" fmla="*/ 360 w 422280"/>
                <a:gd name="textAreaRight" fmla="*/ 421920 w 422280"/>
                <a:gd name="textAreaTop" fmla="*/ 360 h 474840"/>
                <a:gd name="textAreaBottom" fmla="*/ 474480 h 474840"/>
              </a:gdLst>
              <a:ahLst/>
              <a:rect l="textAreaLeft" t="textAreaTop" r="textAreaRight" b="textAreaBottom"/>
              <a:pathLst>
                <a:path w="21600" h="24286">
                  <a:moveTo>
                    <a:pt x="81" y="0"/>
                  </a:moveTo>
                  <a:arcTo wR="81" hR="81" stAng="16200000" swAng="-5400000"/>
                  <a:lnTo>
                    <a:pt x="0" y="24205"/>
                  </a:lnTo>
                  <a:arcTo wR="81" hR="81" stAng="10800000" swAng="-5400000"/>
                  <a:lnTo>
                    <a:pt x="21519" y="24286"/>
                  </a:lnTo>
                  <a:arcTo wR="81" hR="81" stAng="5400000" swAng="-5400000"/>
                  <a:lnTo>
                    <a:pt x="21600" y="81"/>
                  </a:lnTo>
                  <a:arcTo wR="81" hR="81" stAng="0" swAng="-5400000"/>
                  <a:close/>
                </a:path>
              </a:pathLst>
            </a:custGeom>
            <a:solidFill>
              <a:srgbClr val="4b4e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82640" y="2968560"/>
              <a:ext cx="369720" cy="474840"/>
            </a:xfrm>
            <a:custGeom>
              <a:avLst/>
              <a:gdLst>
                <a:gd name="textAreaLeft" fmla="*/ 360 w 369720"/>
                <a:gd name="textAreaRight" fmla="*/ 369360 w 369720"/>
                <a:gd name="textAreaTop" fmla="*/ 360 h 474840"/>
                <a:gd name="textAreaBottom" fmla="*/ 474480 h 474840"/>
              </a:gdLst>
              <a:ahLst/>
              <a:rect l="textAreaLeft" t="textAreaTop" r="textAreaRight" b="textAreaBottom"/>
              <a:pathLst>
                <a:path w="21600" h="27735">
                  <a:moveTo>
                    <a:pt x="93" y="0"/>
                  </a:moveTo>
                  <a:arcTo wR="93" hR="93" stAng="16200000" swAng="-5400000"/>
                  <a:lnTo>
                    <a:pt x="0" y="27642"/>
                  </a:lnTo>
                  <a:arcTo wR="93" hR="93" stAng="10800000" swAng="-5400000"/>
                  <a:lnTo>
                    <a:pt x="21507" y="27735"/>
                  </a:lnTo>
                  <a:arcTo wR="93" hR="93" stAng="5400000" swAng="-5400000"/>
                  <a:lnTo>
                    <a:pt x="21600" y="93"/>
                  </a:lnTo>
                  <a:arcTo wR="93" hR="93" stAng="0" swAng="-5400000"/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4b4eb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" name=""/>
          <p:cNvSpPr/>
          <p:nvPr/>
        </p:nvSpPr>
        <p:spPr>
          <a:xfrm>
            <a:off x="0" y="2895480"/>
            <a:ext cx="560520" cy="422280"/>
          </a:xfrm>
          <a:prstGeom prst="roundRect">
            <a:avLst>
              <a:gd name="adj" fmla="val 375"/>
            </a:avLst>
          </a:prstGeom>
          <a:gradFill rotWithShape="0">
            <a:gsLst>
              <a:gs pos="0">
                <a:srgbClr val="c481c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35040" y="2438280"/>
            <a:ext cx="31680" cy="1052640"/>
          </a:xfrm>
          <a:custGeom>
            <a:avLst/>
            <a:gdLst>
              <a:gd name="textAreaLeft" fmla="*/ 360 w 31680"/>
              <a:gd name="textAreaRight" fmla="*/ 31320 w 31680"/>
              <a:gd name="textAreaTop" fmla="*/ 360 h 1052640"/>
              <a:gd name="textAreaBottom" fmla="*/ 1052280 h 1052640"/>
            </a:gdLst>
            <a:ahLst/>
            <a:rect l="textAreaLeft" t="textAreaTop" r="textAreaRight" b="textAreaBottom"/>
            <a:pathLst>
              <a:path w="21600" h="709888">
                <a:moveTo>
                  <a:pt x="1080" y="0"/>
                </a:moveTo>
                <a:arcTo wR="1080" hR="1080" stAng="16200000" swAng="-5400000"/>
                <a:lnTo>
                  <a:pt x="0" y="708808"/>
                </a:lnTo>
                <a:arcTo wR="1080" hR="1080" stAng="10800000" swAng="-5400000"/>
                <a:lnTo>
                  <a:pt x="20520" y="709888"/>
                </a:lnTo>
                <a:arcTo wR="1080" hR="1080" stAng="5400000" swAng="-5400000"/>
                <a:lnTo>
                  <a:pt x="21600" y="1080"/>
                </a:lnTo>
                <a:arcTo wR="1080" hR="1080" stAng="0" swAng="-5400000"/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90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rot="10800000">
            <a:off x="315720" y="3268440"/>
            <a:ext cx="8683560" cy="46080"/>
          </a:xfrm>
          <a:prstGeom prst="roundRect">
            <a:avLst>
              <a:gd name="adj" fmla="val 3569"/>
            </a:avLst>
          </a:prstGeom>
          <a:gradFill rotWithShape="0">
            <a:gsLst>
              <a:gs pos="0">
                <a:srgbClr val="ffffff"/>
              </a:gs>
              <a:gs pos="100000">
                <a:srgbClr val="3333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5715000" y="5292720"/>
            <a:ext cx="2022480" cy="1488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1457280" y="5788080"/>
            <a:ext cx="1819440" cy="5634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838080" y="5711760"/>
            <a:ext cx="716040" cy="6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3886200" y="5626080"/>
            <a:ext cx="898560" cy="92700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19320" y="1066320"/>
            <a:ext cx="72388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Helvetica Neue"/>
                <a:ea typeface="HG Mincho Light J"/>
              </a:rPr>
              <a:t>Argos</a:t>
            </a:r>
            <a:r>
              <a:rPr b="0" lang="en-GB" sz="4400" spc="-1" strike="noStrike">
                <a:solidFill>
                  <a:srgbClr val="000066"/>
                </a:solidFill>
                <a:latin typeface="Arial"/>
                <a:ea typeface="HG Mincho Light J"/>
              </a:rPr>
              <a:t> </a:t>
            </a:r>
            <a:br>
              <a:rPr sz="4400"/>
            </a:br>
            <a:r>
              <a:rPr b="0" lang="en-GB" sz="4000" spc="-1" strike="noStrike">
                <a:solidFill>
                  <a:srgbClr val="000066"/>
                </a:solidFill>
                <a:latin typeface="Times New Roman"/>
                <a:ea typeface="HG Mincho Light J"/>
              </a:rPr>
              <a:t>&amp; Genome Directories</a:t>
            </a:r>
            <a:r>
              <a:rPr b="0" lang="en-GB" sz="4400" spc="-1" strike="noStrike">
                <a:solidFill>
                  <a:srgbClr val="000066"/>
                </a:solidFill>
                <a:latin typeface="Arial"/>
                <a:ea typeface="HG Mincho Light J"/>
              </a:rPr>
              <a:t>  </a:t>
            </a:r>
            <a:br>
              <a:rPr sz="4400"/>
            </a:br>
            <a:r>
              <a:rPr b="0" lang="en-GB" sz="4400" spc="-1" strike="noStrike">
                <a:solidFill>
                  <a:srgbClr val="000066"/>
                </a:solidFill>
                <a:latin typeface="Apple Chancery"/>
                <a:ea typeface="HG Mincho Light J"/>
              </a:rPr>
              <a:t>&amp; Lucegene (‘Lucy Jean’)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  <a:ea typeface="HG Mincho Light J"/>
              </a:rPr>
              <a:t> </a:t>
            </a:r>
            <a:br>
              <a:rPr sz="2800"/>
            </a:br>
            <a:r>
              <a:rPr b="0" lang="en-GB" sz="2400" spc="-1" strike="noStrike">
                <a:solidFill>
                  <a:srgbClr val="000066"/>
                </a:solidFill>
                <a:latin typeface="Skia"/>
                <a:ea typeface="HG Mincho Light J"/>
              </a:rPr>
              <a:t>A Replicable Genome infOrmation System </a:t>
            </a:r>
            <a:br>
              <a:rPr sz="2400"/>
            </a:br>
            <a:r>
              <a:rPr b="0" lang="en-GB" sz="2400" spc="-1" strike="noStrike">
                <a:solidFill>
                  <a:srgbClr val="000066"/>
                </a:solidFill>
                <a:latin typeface="Skia"/>
                <a:ea typeface="HG Mincho Light J"/>
              </a:rPr>
              <a:t>of Common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143000" y="434304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3000"/>
              </a:lnSpc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HG Mincho Light J"/>
              </a:rPr>
              <a:t>GMOD Meeting, Sept. 200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10160" y="4876920"/>
            <a:ext cx="477252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5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HG Mincho Light J"/>
              </a:rPr>
              <a:t>Don Gilbert, </a:t>
            </a:r>
            <a:r>
              <a:rPr b="0" lang="en-GB" sz="2400" spc="-1" strike="noStrike">
                <a:solidFill>
                  <a:srgbClr val="c481cf"/>
                </a:solidFill>
                <a:latin typeface="Arial"/>
                <a:ea typeface="HG Mincho Light J"/>
              </a:rPr>
              <a:t>gilbertd@indiana.ed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95280" y="333000"/>
            <a:ext cx="7151760" cy="8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Arial"/>
                <a:ea typeface="HG Mincho Light J"/>
              </a:rPr>
              <a:t>Daphnia Example System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31720" y="1593720"/>
            <a:ext cx="8197920" cy="50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3000"/>
              </a:lnSpc>
              <a:spcBef>
                <a:spcPts val="4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wFleaBase -- proto-Daphnia genome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gi-bin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- Web programs(Per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ommon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- Link to common, shared t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onf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- Site configurations for web,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ata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- Bulk data &amp; FTP site fol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b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- Project databases: blast, lucene, mysq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ndices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- Database indic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Lib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- Program libra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Web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- Web structure and docu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enomics, Sequences, Maps, Literature, Stocks, Docs, o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cludes Public and Protected (project member only) par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Webapps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- Web programs (Jav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cludes Search system, Secure web and edi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8623440" cy="64008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4346280" y="914400"/>
            <a:ext cx="4536360" cy="3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481cf"/>
                </a:solidFill>
                <a:latin typeface="Helvetica Neue"/>
                <a:ea typeface="HG Mincho Light J"/>
              </a:rPr>
              <a:t>http://iubio.bio.indiana.edu/daphn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 rot="16200000">
            <a:off x="-2019240" y="3314520"/>
            <a:ext cx="5257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Arial"/>
                <a:ea typeface="HG Mincho Light J"/>
              </a:rPr>
              <a:t>BLAST  wFleaBase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990720" y="90360"/>
            <a:ext cx="8001000" cy="6691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295280" y="239760"/>
            <a:ext cx="722952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Arial"/>
                <a:ea typeface="HG Mincho Light J"/>
              </a:rPr>
              <a:t>Edit  wFleaBase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52280" y="1219320"/>
            <a:ext cx="8839440" cy="473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90720" y="15235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6000" spc="-1" strike="noStrike">
                <a:solidFill>
                  <a:srgbClr val="000066"/>
                </a:solidFill>
                <a:latin typeface="Apple Chancery"/>
                <a:ea typeface="HG Mincho Light J"/>
              </a:rPr>
              <a:t>Lucegene (‘Lucy Jean’)</a:t>
            </a:r>
            <a:br>
              <a:rPr sz="4000"/>
            </a:br>
            <a:r>
              <a:rPr b="0" lang="en-GB" sz="2800" spc="-1" strike="noStrike">
                <a:solidFill>
                  <a:srgbClr val="000066"/>
                </a:solidFill>
                <a:latin typeface="Arial"/>
                <a:ea typeface="HG Mincho Light J"/>
              </a:rPr>
              <a:t>for Genome Information Search and Retriev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9164520" y="4421160"/>
            <a:ext cx="184320" cy="457200"/>
          </a:xfrm>
          <a:custGeom>
            <a:avLst/>
            <a:gdLst>
              <a:gd name="textAreaLeft" fmla="*/ 360 w 184320"/>
              <a:gd name="textAreaRight" fmla="*/ 183960 w 184320"/>
              <a:gd name="textAreaTop" fmla="*/ 360 h 457200"/>
              <a:gd name="textAreaBottom" fmla="*/ 456840 h 457200"/>
            </a:gdLst>
            <a:ahLst/>
            <a:rect l="textAreaLeft" t="textAreaTop" r="textAreaRight" b="textAreaBottom"/>
            <a:pathLst>
              <a:path w="21600" h="53516">
                <a:moveTo>
                  <a:pt x="186" y="0"/>
                </a:moveTo>
                <a:arcTo wR="186" hR="186" stAng="16200000" swAng="-5400000"/>
                <a:lnTo>
                  <a:pt x="0" y="53330"/>
                </a:lnTo>
                <a:arcTo wR="186" hR="186" stAng="10800000" swAng="-5400000"/>
                <a:lnTo>
                  <a:pt x="21414" y="53516"/>
                </a:lnTo>
                <a:arcTo wR="186" hR="186" stAng="5400000" swAng="-5400000"/>
                <a:lnTo>
                  <a:pt x="21600" y="186"/>
                </a:lnTo>
                <a:arcTo wR="186" hR="186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Arial"/>
                <a:ea typeface="HG Mincho Light J"/>
              </a:rPr>
              <a:t>Info. Retrieval for Genomes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8458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437"/>
              </a:spcBef>
              <a:buClr>
                <a:srgbClr val="76b749"/>
              </a:buClr>
              <a:buFont typeface="Time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R text search/retrieval tools tuned for data access, not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437"/>
              </a:spcBef>
              <a:buClr>
                <a:srgbClr val="76b749"/>
              </a:buClr>
              <a:buFont typeface="Time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ood for a wide range of semi-structured and complex structured dat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437"/>
              </a:spcBef>
              <a:buClr>
                <a:srgbClr val="76b749"/>
              </a:buClr>
              <a:buFont typeface="Time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etter functional match for textual data common in biology than numeric, table-oriented RDB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437"/>
              </a:spcBef>
              <a:buClr>
                <a:srgbClr val="76b749"/>
              </a:buClr>
              <a:buFont typeface="Time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asier to add new data (e.g. SRS parses 100s of existing bio-databank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3048120" y="3429000"/>
          <a:ext cx="6095880" cy="286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8120" y="3429000"/>
                    <a:ext cx="6095880" cy="286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38" name=""/>
          <p:cNvGrpSpPr/>
          <p:nvPr/>
        </p:nvGrpSpPr>
        <p:grpSpPr>
          <a:xfrm>
            <a:off x="304920" y="3200400"/>
            <a:ext cx="2666880" cy="3200400"/>
            <a:chOff x="304920" y="3200400"/>
            <a:chExt cx="2666880" cy="3200400"/>
          </a:xfrm>
        </p:grpSpPr>
        <p:sp>
          <p:nvSpPr>
            <p:cNvPr id="139" name=""/>
            <p:cNvSpPr/>
            <p:nvPr/>
          </p:nvSpPr>
          <p:spPr>
            <a:xfrm>
              <a:off x="304920" y="3200400"/>
              <a:ext cx="2666880" cy="3200400"/>
            </a:xfrm>
            <a:custGeom>
              <a:avLst/>
              <a:gdLst>
                <a:gd name="textAreaLeft" fmla="*/ 360 w 2666880"/>
                <a:gd name="textAreaRight" fmla="*/ 2666520 w 2666880"/>
                <a:gd name="textAreaTop" fmla="*/ 360 h 3200400"/>
                <a:gd name="textAreaBottom" fmla="*/ 3200040 h 3200400"/>
              </a:gdLst>
              <a:ahLst/>
              <a:rect l="textAreaLeft" t="textAreaTop" r="textAreaRight" b="textAreaBottom"/>
              <a:pathLst>
                <a:path w="21600" h="25921">
                  <a:moveTo>
                    <a:pt x="12" y="0"/>
                  </a:moveTo>
                  <a:arcTo wR="12" hR="12" stAng="16200000" swAng="-5400000"/>
                  <a:lnTo>
                    <a:pt x="0" y="25909"/>
                  </a:lnTo>
                  <a:arcTo wR="12" hR="12" stAng="10800000" swAng="-5400000"/>
                  <a:lnTo>
                    <a:pt x="21588" y="25921"/>
                  </a:lnTo>
                  <a:arcTo wR="12" hR="12" stAng="5400000" swAng="-5400000"/>
                  <a:lnTo>
                    <a:pt x="21600" y="12"/>
                  </a:lnTo>
                  <a:arcTo wR="12" hR="12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04920" y="3200400"/>
              <a:ext cx="2666880" cy="162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1280" indent="-341280">
                <a:lnSpc>
                  <a:spcPct val="93000"/>
                </a:lnSpc>
                <a:spcBef>
                  <a:spcPts val="437"/>
                </a:spcBef>
                <a:buClr>
                  <a:srgbClr val="76b749"/>
                </a:buClr>
                <a:buFont typeface="Times"/>
                <a:buChar char="•"/>
                <a:tabLst>
                  <a:tab algn="l" pos="911160"/>
                  <a:tab algn="l" pos="1825560"/>
                  <a:tab algn="l" pos="2739960"/>
                  <a:tab algn="l" pos="3654360"/>
                  <a:tab algn="l" pos="4568760"/>
                  <a:tab algn="l" pos="5483160"/>
                  <a:tab algn="l" pos="6397560"/>
                  <a:tab algn="l" pos="7311960"/>
                  <a:tab algn="l" pos="8226360"/>
                  <a:tab algn="l" pos="9140760"/>
                  <a:tab algn="l" pos="1005516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  <a:ea typeface="HG Mincho Light J"/>
                </a:rPr>
                <a:t>Faster by orders of magnitude at search of complex data (no table joins; data is extremely </a:t>
              </a: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  <a:ea typeface="HG Mincho Light J"/>
                </a:rPr>
                <a:t>non-normal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  <a:ea typeface="HG Mincho Light J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1" name=""/>
          <p:cNvSpPr/>
          <p:nvPr/>
        </p:nvSpPr>
        <p:spPr>
          <a:xfrm>
            <a:off x="5948640" y="3200400"/>
            <a:ext cx="28494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HG Mincho Light J"/>
              </a:rPr>
              <a:t>Drosophila Genome Annot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HG Mincho Light J"/>
              </a:rPr>
              <a:t>SRS or GaDB relational 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Arial"/>
                <a:ea typeface="HG Mincho Light J"/>
              </a:rPr>
              <a:t>Lucene and LuceGene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82680" y="1676160"/>
            <a:ext cx="8493120" cy="45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437"/>
              </a:spcBef>
              <a:buClr>
                <a:srgbClr val="76b749"/>
              </a:buClr>
              <a:buFont typeface="Time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ucene open-source project at jakarta.apache.org/luce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388"/>
              </a:spcBef>
              <a:buClr>
                <a:srgbClr val="c481cf"/>
              </a:buClr>
              <a:buFont typeface="Time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ommon text search features: booleans, phrases, word stemming, fuzzy and field range searches, relevance rank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388"/>
              </a:spcBef>
              <a:buClr>
                <a:srgbClr val="c481cf"/>
              </a:buClr>
              <a:buFont typeface="Time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omparable to Glimpse, Excite, WAIS, ht/dig, Alta-vista, Google backe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388"/>
              </a:spcBef>
              <a:buClr>
                <a:srgbClr val="c481cf"/>
              </a:buClr>
              <a:buFont typeface="Time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uthor Doug Cutting wrote text search engines for Apple and Exci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437"/>
              </a:spcBef>
              <a:buClr>
                <a:srgbClr val="76b749"/>
              </a:buClr>
              <a:buFont typeface="Time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uceGene add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388"/>
              </a:spcBef>
              <a:buClr>
                <a:srgbClr val="c481cf"/>
              </a:buClr>
              <a:buFont typeface="Time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Data input adaptors for HTML; XML (e.g. MedLine); FlyBase flatfile; Biosequences (GenBank, EMBL, etc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388"/>
              </a:spcBef>
              <a:buClr>
                <a:srgbClr val="c481cf"/>
              </a:buClr>
              <a:buFont typeface="Time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Basic output formats for XML, HTML via XSLT, Text, Spreadshe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437"/>
              </a:spcBef>
              <a:buClr>
                <a:srgbClr val="76b749"/>
              </a:buClr>
              <a:buFont typeface="Time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ested wi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388"/>
              </a:spcBef>
              <a:buClr>
                <a:srgbClr val="c481cf"/>
              </a:buClr>
              <a:buFont typeface="Time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100,000s of FlyBase Genes, References, Game and Chado XML annot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388"/>
              </a:spcBef>
              <a:buClr>
                <a:srgbClr val="c481cf"/>
              </a:buClr>
              <a:buFont typeface="Time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euGenes gene summaries &amp; Daphnia Medline, Sequences, HTML docu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437"/>
              </a:spcBef>
              <a:buClr>
                <a:srgbClr val="76b749"/>
              </a:buClr>
              <a:buFont typeface="Time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uceGene/Lucene nee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388"/>
              </a:spcBef>
              <a:buClr>
                <a:srgbClr val="c481cf"/>
              </a:buClr>
              <a:buFont typeface="Time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ange search improvements (inefficient, dies w/ large rang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388"/>
              </a:spcBef>
              <a:buClr>
                <a:srgbClr val="c481cf"/>
              </a:buClr>
              <a:buFont typeface="Time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Links/joins among databa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388"/>
              </a:spcBef>
              <a:buClr>
                <a:srgbClr val="c481cf"/>
              </a:buClr>
              <a:buFont typeface="Time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utput adaptors and work? (or rely on data source formattin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4724280" y="1523880"/>
            <a:ext cx="4114800" cy="4496040"/>
            <a:chOff x="4724280" y="1523880"/>
            <a:chExt cx="4114800" cy="4496040"/>
          </a:xfrm>
        </p:grpSpPr>
        <p:sp>
          <p:nvSpPr>
            <p:cNvPr id="145" name=""/>
            <p:cNvSpPr/>
            <p:nvPr/>
          </p:nvSpPr>
          <p:spPr>
            <a:xfrm>
              <a:off x="4724280" y="1523880"/>
              <a:ext cx="4114800" cy="4496040"/>
            </a:xfrm>
            <a:custGeom>
              <a:avLst/>
              <a:gdLst>
                <a:gd name="textAreaLeft" fmla="*/ 360 w 4114800"/>
                <a:gd name="textAreaRight" fmla="*/ 4114440 w 4114800"/>
                <a:gd name="textAreaTop" fmla="*/ 360 h 4496040"/>
                <a:gd name="textAreaBottom" fmla="*/ 4495680 h 4496040"/>
              </a:gdLst>
              <a:ahLst/>
              <a:rect l="textAreaLeft" t="textAreaTop" r="textAreaRight" b="textAreaBottom"/>
              <a:pathLst>
                <a:path w="21600" h="23601">
                  <a:moveTo>
                    <a:pt x="8" y="0"/>
                  </a:moveTo>
                  <a:arcTo wR="8" hR="8" stAng="16200000" swAng="-5400000"/>
                  <a:lnTo>
                    <a:pt x="0" y="23593"/>
                  </a:lnTo>
                  <a:arcTo wR="8" hR="8" stAng="10800000" swAng="-5400000"/>
                  <a:lnTo>
                    <a:pt x="21592" y="23601"/>
                  </a:lnTo>
                  <a:arcTo wR="8" hR="8" stAng="5400000" swAng="-5400000"/>
                  <a:lnTo>
                    <a:pt x="21600" y="8"/>
                  </a:lnTo>
                  <a:arcTo wR="8" hR="8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724280" y="1523880"/>
              <a:ext cx="4114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852480" y="152280"/>
            <a:ext cx="8291520" cy="650556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 rot="16200000">
            <a:off x="-2024640" y="3321720"/>
            <a:ext cx="5116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Arial"/>
                <a:ea typeface="HG Mincho Light J"/>
              </a:rPr>
              <a:t>Search  wFleaBase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 rot="16200000">
            <a:off x="-2024640" y="3321720"/>
            <a:ext cx="5116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Arial"/>
                <a:ea typeface="HG Mincho Light J"/>
              </a:rPr>
              <a:t>Search  wFleaBase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990720" y="198360"/>
            <a:ext cx="8100720" cy="635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90720" y="1143000"/>
            <a:ext cx="76960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Arial"/>
                <a:ea typeface="HG Mincho Light J"/>
              </a:rPr>
              <a:t>Genome Data Directories</a:t>
            </a:r>
            <a:br>
              <a:rPr sz="4400"/>
            </a:br>
            <a:r>
              <a:rPr b="0" lang="en-GB" sz="2800" spc="-1" strike="noStrike">
                <a:solidFill>
                  <a:srgbClr val="000066"/>
                </a:solidFill>
                <a:latin typeface="Arial"/>
                <a:ea typeface="HG Mincho Light J"/>
              </a:rPr>
              <a:t>for Data Grid and related Internet distributed search standar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374400" y="1676520"/>
            <a:ext cx="82357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89"/>
              </a:spcBef>
              <a:buClr>
                <a:srgbClr val="76b749"/>
              </a:buClr>
              <a:buFont typeface="Time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Argo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is a framework for distributing common components with implemented genome data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20000"/>
              </a:lnSpc>
              <a:spcBef>
                <a:spcPts val="689"/>
              </a:spcBef>
              <a:buClr>
                <a:srgbClr val="76b749"/>
              </a:buClr>
              <a:buFont typeface="Time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LuceGen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, SRS,… are backends to search &amp; retrieve data objects efficiently from any flat-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20000"/>
              </a:lnSpc>
              <a:spcBef>
                <a:spcPts val="689"/>
              </a:spcBef>
              <a:buClr>
                <a:srgbClr val="76b749"/>
              </a:buClr>
              <a:buFont typeface="Time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Genome Directory System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includes WebServices, GridServices, LDAP, OAI,…  Internet standard interfaces to search backe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title"/>
          </p:nvPr>
        </p:nvSpPr>
        <p:spPr>
          <a:xfrm>
            <a:off x="1294920" y="1522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Arial"/>
                <a:ea typeface="HG Mincho Light J"/>
              </a:rPr>
              <a:t>Three building blocks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219320" y="457200"/>
            <a:ext cx="76197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Arial"/>
                <a:ea typeface="HG Mincho Light J"/>
              </a:rPr>
              <a:t>Focus on Genome Data Access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33160" y="1980720"/>
            <a:ext cx="821196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89"/>
              </a:spcBef>
              <a:buClr>
                <a:srgbClr val="76b749"/>
              </a:buClr>
              <a:buFont typeface="Time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ioscientists are data-mining to study 1000s of genes rather than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10000"/>
              </a:lnSpc>
              <a:spcBef>
                <a:spcPts val="689"/>
              </a:spcBef>
              <a:buClr>
                <a:srgbClr val="76b749"/>
              </a:buClr>
              <a:buFont typeface="Time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eb page scraping and bulk files not enou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10000"/>
              </a:lnSpc>
              <a:spcBef>
                <a:spcPts val="689"/>
              </a:spcBef>
              <a:buClr>
                <a:srgbClr val="76b749"/>
              </a:buClr>
              <a:buFont typeface="Time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eed Internet search &amp; retrieval of genome objects distributed among many 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10000"/>
              </a:lnSpc>
              <a:spcBef>
                <a:spcPts val="689"/>
              </a:spcBef>
              <a:buClr>
                <a:srgbClr val="76b749"/>
              </a:buClr>
              <a:buFont typeface="Time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imple, flexible client program model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10000"/>
              </a:lnSpc>
              <a:spcBef>
                <a:spcPts val="689"/>
              </a:spcBef>
              <a:buClr>
                <a:srgbClr val="76b749"/>
              </a:buClr>
              <a:buFont typeface="Time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fficient for high volumes (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objects; &gt;1 GB siz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Arial"/>
                <a:ea typeface="HG Mincho Light J"/>
              </a:rPr>
              <a:t>Directories of Genome Data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726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587"/>
              </a:spcBef>
              <a:buClr>
                <a:srgbClr val="76b749"/>
              </a:buClr>
              <a:buFont typeface="Time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irectories are a necessary step for bio gri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488"/>
              </a:spcBef>
              <a:buClr>
                <a:srgbClr val="c481cf"/>
              </a:buClr>
              <a:buFont typeface="Time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"broad and shallow"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directories federate the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"narrow and deep"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datab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1188"/>
              </a:spcBef>
              <a:spcAft>
                <a:spcPts val="286"/>
              </a:spcAft>
              <a:buClr>
                <a:srgbClr val="76b749"/>
              </a:buClr>
              <a:buFont typeface="Time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Bio-Data Access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1188"/>
              </a:spcBef>
              <a:spcAft>
                <a:spcPts val="286"/>
              </a:spcAft>
              <a:buClr>
                <a:srgbClr val="c481cf"/>
              </a:buClr>
              <a:buFont typeface="Time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RS, Sequence Retrieval System;  Entrez ;  AceDB; Genome relational databases (Ensembl, FlyBase, WormBase) ; IBM DiscoveryLink; BioDAS ; BioMo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1188"/>
              </a:spcBef>
              <a:spcAft>
                <a:spcPts val="286"/>
              </a:spcAft>
              <a:buClr>
                <a:srgbClr val="76b749"/>
              </a:buClr>
              <a:buFont typeface="Time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irectory services for data ac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488"/>
              </a:spcBef>
              <a:buClr>
                <a:srgbClr val="c481cf"/>
              </a:buClr>
              <a:buFont typeface="Time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ayer onto access tools for common query/retriev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488"/>
              </a:spcBef>
              <a:buClr>
                <a:srgbClr val="c481cf"/>
              </a:buClr>
              <a:buFont typeface="Time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LDAP: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mature, efficient for high volumes, query distributed directories ; works well with bio-access t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1188"/>
              </a:spcBef>
              <a:spcAft>
                <a:spcPts val="286"/>
              </a:spcAft>
              <a:buClr>
                <a:srgbClr val="c481cf"/>
              </a:buClr>
              <a:buFont typeface="Time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Web Services: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XML messages over Web ; wide industry support , standards are in prog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Arial"/>
                <a:ea typeface="HG Mincho Light J"/>
              </a:rPr>
              <a:t>Directory Aspects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3055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89"/>
              </a:spcBef>
              <a:buClr>
                <a:srgbClr val="76b749"/>
              </a:buClr>
              <a:buFont typeface="Time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uild on existing technolog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89"/>
              </a:spcBef>
              <a:buClr>
                <a:srgbClr val="76b749"/>
              </a:buClr>
              <a:buFont typeface="Time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fficient for millions of ob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89"/>
              </a:spcBef>
              <a:buClr>
                <a:srgbClr val="76b749"/>
              </a:buClr>
              <a:buFont typeface="Time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Queries distributed across director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89"/>
              </a:spcBef>
              <a:buClr>
                <a:srgbClr val="76b749"/>
              </a:buClr>
              <a:buFont typeface="Time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upport existing and new data acces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89"/>
              </a:spcBef>
              <a:buClr>
                <a:srgbClr val="76b749"/>
              </a:buClr>
              <a:buFont typeface="Time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imple client program metho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89"/>
              </a:spcBef>
              <a:buClr>
                <a:srgbClr val="76b749"/>
              </a:buClr>
              <a:buFont typeface="Time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lexible, common schema for ob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89"/>
              </a:spcBef>
              <a:buClr>
                <a:srgbClr val="76b749"/>
              </a:buClr>
              <a:buFont typeface="Time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plicate directories among bioinformatics cen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89"/>
              </a:spcBef>
              <a:buClr>
                <a:srgbClr val="76b749"/>
              </a:buClr>
              <a:buFont typeface="Time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eer-to-peer directories for collabo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89"/>
              </a:spcBef>
              <a:buClr>
                <a:srgbClr val="76b749"/>
              </a:buClr>
              <a:buFont typeface="Time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trong authentication and secu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Arial"/>
                <a:ea typeface="HG Mincho Light J"/>
              </a:rPr>
              <a:t>Directory Components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534160" cy="545004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592200" y="492120"/>
            <a:ext cx="183960" cy="457200"/>
          </a:xfrm>
          <a:custGeom>
            <a:avLst/>
            <a:gdLst>
              <a:gd name="textAreaLeft" fmla="*/ 360 w 183960"/>
              <a:gd name="textAreaRight" fmla="*/ 183600 w 183960"/>
              <a:gd name="textAreaTop" fmla="*/ 360 h 457200"/>
              <a:gd name="textAreaBottom" fmla="*/ 456840 h 457200"/>
            </a:gdLst>
            <a:ahLst/>
            <a:rect l="textAreaLeft" t="textAreaTop" r="textAreaRight" b="textAreaBottom"/>
            <a:pathLst>
              <a:path w="21600" h="53620">
                <a:moveTo>
                  <a:pt x="186" y="0"/>
                </a:moveTo>
                <a:arcTo wR="186" hR="186" stAng="16200000" swAng="-5400000"/>
                <a:lnTo>
                  <a:pt x="0" y="53434"/>
                </a:lnTo>
                <a:arcTo wR="186" hR="186" stAng="10800000" swAng="-5400000"/>
                <a:lnTo>
                  <a:pt x="21414" y="53620"/>
                </a:lnTo>
                <a:arcTo wR="186" hR="186" stAng="5400000" swAng="-5400000"/>
                <a:lnTo>
                  <a:pt x="21600" y="186"/>
                </a:lnTo>
                <a:arcTo wR="186" hR="186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Arial"/>
                <a:ea typeface="HG Mincho Light J"/>
              </a:rPr>
              <a:t>Directory Standards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726400" cy="532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89"/>
              </a:spcBef>
              <a:buClr>
                <a:srgbClr val="76b749"/>
              </a:buClr>
              <a:buFont typeface="Time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pen Grid Services Architechture (OGS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587"/>
              </a:spcBef>
              <a:buClr>
                <a:srgbClr val="c481cf"/>
              </a:buClr>
              <a:buFont typeface="Time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AP based; query support for XML-SQL, Xpath, Xquery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587"/>
              </a:spcBef>
              <a:buClr>
                <a:srgbClr val="c481cf"/>
              </a:buClr>
              <a:buFont typeface="Time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ata Access project: http://www.ogsa-dai.org.u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89"/>
              </a:spcBef>
              <a:buClr>
                <a:srgbClr val="76b749"/>
              </a:buClr>
              <a:buFont typeface="Time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ightweight Directory Access (LDA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587"/>
              </a:spcBef>
              <a:buClr>
                <a:srgbClr val="c481cf"/>
              </a:buClr>
              <a:buFont typeface="Time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obust system for distributed search and retriev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10000"/>
              </a:lnSpc>
              <a:spcBef>
                <a:spcPts val="587"/>
              </a:spcBef>
              <a:buClr>
                <a:srgbClr val="c481cf"/>
              </a:buClr>
              <a:buFont typeface="Time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bject-centric, optimized for efficient read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10000"/>
              </a:lnSpc>
              <a:spcBef>
                <a:spcPts val="587"/>
              </a:spcBef>
              <a:buClr>
                <a:srgbClr val="c481cf"/>
              </a:buClr>
              <a:buFont typeface="Time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ierarchical, distributed and replicated in n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89"/>
              </a:spcBef>
              <a:buClr>
                <a:srgbClr val="76b749"/>
              </a:buClr>
              <a:buFont typeface="Time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ife Sciences ID (LSID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587"/>
              </a:spcBef>
              <a:buClr>
                <a:srgbClr val="c481cf"/>
              </a:buClr>
              <a:buFont typeface="Time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ew standard for bio-object naming, with LDAP and WebServices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89"/>
              </a:spcBef>
              <a:buClr>
                <a:srgbClr val="76b749"/>
              </a:buClr>
              <a:buFont typeface="Time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by project web services repository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Arial"/>
                <a:ea typeface="HG Mincho Light J"/>
              </a:rPr>
              <a:t>Directory Web Service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5867280" cy="5257800"/>
          </a:xfrm>
          <a:prstGeom prst="rect">
            <a:avLst/>
          </a:prstGeom>
          <a:solidFill>
            <a:srgbClr val="ffcc00">
              <a:alpha val="19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286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/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286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* Directory.java - SOAP service (Axis) for biology directory search/retrieval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286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*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286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package iubio.ne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286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public interface Directory  extends java.rmi.Remote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286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public Object directory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286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public Object library(String nam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286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public Object lookup(String lib, String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286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public Object lookup(String lib, String field, String val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286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// search() returns qid = search/ query 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286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public String search(String q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286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public String search(String q, String format, int max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286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// return results of 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286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public int count(String q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286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public Object next(String q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286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public int setpage(String qid, int start, int pag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286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public Object nextpage(String q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286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public String attachpage(String q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286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// et cete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286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public String[] formats(String qid);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286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public boolean setformat(String forma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286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public boolean setformat(String qid, String forma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286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public void close(Object q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286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6097680" y="304920"/>
            <a:ext cx="30625200" cy="12842640"/>
            <a:chOff x="6097680" y="304920"/>
            <a:chExt cx="30625200" cy="12842640"/>
          </a:xfrm>
        </p:grpSpPr>
        <p:sp>
          <p:nvSpPr>
            <p:cNvPr id="166" name=""/>
            <p:cNvSpPr/>
            <p:nvPr/>
          </p:nvSpPr>
          <p:spPr>
            <a:xfrm>
              <a:off x="6097680" y="304920"/>
              <a:ext cx="2925720" cy="6399000"/>
            </a:xfrm>
            <a:custGeom>
              <a:avLst/>
              <a:gdLst>
                <a:gd name="textAreaLeft" fmla="*/ 360 w 2925720"/>
                <a:gd name="textAreaRight" fmla="*/ 2925360 w 2925720"/>
                <a:gd name="textAreaTop" fmla="*/ 360 h 6399000"/>
                <a:gd name="textAreaBottom" fmla="*/ 6398640 h 6399000"/>
              </a:gdLst>
              <a:ahLst/>
              <a:rect l="textAreaLeft" t="textAreaTop" r="textAreaRight" b="textAreaBottom"/>
              <a:pathLst>
                <a:path w="21600" h="47239">
                  <a:moveTo>
                    <a:pt x="11" y="0"/>
                  </a:moveTo>
                  <a:arcTo wR="11" hR="11" stAng="16200000" swAng="-5400000"/>
                  <a:lnTo>
                    <a:pt x="0" y="47228"/>
                  </a:lnTo>
                  <a:arcTo wR="11" hR="11" stAng="10800000" swAng="-5400000"/>
                  <a:lnTo>
                    <a:pt x="21589" y="47239"/>
                  </a:lnTo>
                  <a:arcTo wR="11" hR="11" stAng="5400000" swAng="-5400000"/>
                  <a:lnTo>
                    <a:pt x="21600" y="11"/>
                  </a:lnTo>
                  <a:arcTo wR="11" hR="11" stAng="0" swAng="-5400000"/>
                  <a:close/>
                </a:path>
              </a:pathLst>
            </a:custGeom>
            <a:solidFill>
              <a:srgbClr val="c4709a">
                <a:alpha val="14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298200" y="304920"/>
              <a:ext cx="30424680" cy="128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134720"/>
                  <a:tab algn="l" pos="10858680"/>
                  <a:tab algn="l" pos="11582280"/>
                  <a:tab algn="l" pos="12306240"/>
                  <a:tab algn="l" pos="13030200"/>
                  <a:tab algn="l" pos="13754160"/>
                  <a:tab algn="l" pos="14478120"/>
                  <a:tab algn="l" pos="15202080"/>
                  <a:tab algn="l" pos="15925680"/>
                  <a:tab algn="l" pos="16649640"/>
                  <a:tab algn="l" pos="17373600"/>
                  <a:tab algn="l" pos="18097560"/>
                  <a:tab algn="l" pos="18821520"/>
                  <a:tab algn="l" pos="19545480"/>
                  <a:tab algn="l" pos="20269080"/>
                  <a:tab algn="l" pos="20993040"/>
                  <a:tab algn="l" pos="21717000"/>
                  <a:tab algn="l" pos="22440960"/>
                  <a:tab algn="l" pos="23164920"/>
                  <a:tab algn="l" pos="23888880"/>
                  <a:tab algn="l" pos="24612480"/>
                  <a:tab algn="l" pos="25336440"/>
                  <a:tab algn="l" pos="26060400"/>
                  <a:tab algn="l" pos="26784360"/>
                  <a:tab algn="l" pos="27508320"/>
                  <a:tab algn="l" pos="28232280"/>
                  <a:tab algn="l" pos="28955880"/>
                  <a:tab algn="l" pos="29679840"/>
                  <a:tab algn="l" pos="304038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Courier New"/>
                  <a:ea typeface="HG Mincho Light J"/>
                </a:rPr>
                <a:t>&lt;?xml version="1.0" encoding="UTF-8"?&gt;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134720"/>
                  <a:tab algn="l" pos="10858680"/>
                  <a:tab algn="l" pos="11582280"/>
                  <a:tab algn="l" pos="12306240"/>
                  <a:tab algn="l" pos="13030200"/>
                  <a:tab algn="l" pos="13754160"/>
                  <a:tab algn="l" pos="14478120"/>
                  <a:tab algn="l" pos="15202080"/>
                  <a:tab algn="l" pos="15925680"/>
                  <a:tab algn="l" pos="16649640"/>
                  <a:tab algn="l" pos="17373600"/>
                  <a:tab algn="l" pos="18097560"/>
                  <a:tab algn="l" pos="18821520"/>
                  <a:tab algn="l" pos="19545480"/>
                  <a:tab algn="l" pos="20269080"/>
                  <a:tab algn="l" pos="20993040"/>
                  <a:tab algn="l" pos="21717000"/>
                  <a:tab algn="l" pos="22440960"/>
                  <a:tab algn="l" pos="23164920"/>
                  <a:tab algn="l" pos="23888880"/>
                  <a:tab algn="l" pos="24612480"/>
                  <a:tab algn="l" pos="25336440"/>
                  <a:tab algn="l" pos="26060400"/>
                  <a:tab algn="l" pos="26784360"/>
                  <a:tab algn="l" pos="27508320"/>
                  <a:tab algn="l" pos="28232280"/>
                  <a:tab algn="l" pos="28955880"/>
                  <a:tab algn="l" pos="29679840"/>
                  <a:tab algn="l" pos="304038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Courier New"/>
                  <a:ea typeface="HG Mincho Light J"/>
                </a:rPr>
                <a:t>&lt;wsdl:definitions targetNamespace="http://eugenes.org/services" xmlns:impl="http://eugenes.org/services" xmlns:intf="http://eugenes.org/services" xmlns:apachesoap="http://xml.apache.org/xml-soap" xmlns:wsdlsoap="http://schemas.xmlsoap.org/wsdl/soap/" xmlns:soapenc="http://schemas.xmlsoap.org/soap/encoding/" xmlns:xsd="http://www.w3.org/2001/XMLSchema" xmlns:wsdl="http://schemas.xmlsoap.org/wsdl/" xmlns="http://schemas.xmlsoap.org/wsdl/"&gt;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134720"/>
                  <a:tab algn="l" pos="10858680"/>
                  <a:tab algn="l" pos="11582280"/>
                  <a:tab algn="l" pos="12306240"/>
                  <a:tab algn="l" pos="13030200"/>
                  <a:tab algn="l" pos="13754160"/>
                  <a:tab algn="l" pos="14478120"/>
                  <a:tab algn="l" pos="15202080"/>
                  <a:tab algn="l" pos="15925680"/>
                  <a:tab algn="l" pos="16649640"/>
                  <a:tab algn="l" pos="17373600"/>
                  <a:tab algn="l" pos="18097560"/>
                  <a:tab algn="l" pos="18821520"/>
                  <a:tab algn="l" pos="19545480"/>
                  <a:tab algn="l" pos="20269080"/>
                  <a:tab algn="l" pos="20993040"/>
                  <a:tab algn="l" pos="21717000"/>
                  <a:tab algn="l" pos="22440960"/>
                  <a:tab algn="l" pos="23164920"/>
                  <a:tab algn="l" pos="23888880"/>
                  <a:tab algn="l" pos="24612480"/>
                  <a:tab algn="l" pos="25336440"/>
                  <a:tab algn="l" pos="26060400"/>
                  <a:tab algn="l" pos="26784360"/>
                  <a:tab algn="l" pos="27508320"/>
                  <a:tab algn="l" pos="28232280"/>
                  <a:tab algn="l" pos="28955880"/>
                  <a:tab algn="l" pos="29679840"/>
                  <a:tab algn="l" pos="304038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Courier New"/>
                  <a:ea typeface="HG Mincho Light J"/>
                </a:rPr>
                <a:t>&lt;wsdl:types&gt;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134720"/>
                  <a:tab algn="l" pos="10858680"/>
                  <a:tab algn="l" pos="11582280"/>
                  <a:tab algn="l" pos="12306240"/>
                  <a:tab algn="l" pos="13030200"/>
                  <a:tab algn="l" pos="13754160"/>
                  <a:tab algn="l" pos="14478120"/>
                  <a:tab algn="l" pos="15202080"/>
                  <a:tab algn="l" pos="15925680"/>
                  <a:tab algn="l" pos="16649640"/>
                  <a:tab algn="l" pos="17373600"/>
                  <a:tab algn="l" pos="18097560"/>
                  <a:tab algn="l" pos="18821520"/>
                  <a:tab algn="l" pos="19545480"/>
                  <a:tab algn="l" pos="20269080"/>
                  <a:tab algn="l" pos="20993040"/>
                  <a:tab algn="l" pos="21717000"/>
                  <a:tab algn="l" pos="22440960"/>
                  <a:tab algn="l" pos="23164920"/>
                  <a:tab algn="l" pos="23888880"/>
                  <a:tab algn="l" pos="24612480"/>
                  <a:tab algn="l" pos="25336440"/>
                  <a:tab algn="l" pos="26060400"/>
                  <a:tab algn="l" pos="26784360"/>
                  <a:tab algn="l" pos="27508320"/>
                  <a:tab algn="l" pos="28232280"/>
                  <a:tab algn="l" pos="28955880"/>
                  <a:tab algn="l" pos="29679840"/>
                  <a:tab algn="l" pos="304038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Courier New"/>
                  <a:ea typeface="HG Mincho Light J"/>
                </a:rPr>
                <a:t>&lt;schema xmlns="http://www.w3.org/2001/XMLSchema" targetNamespace="http://eugenes.org/services"&gt;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134720"/>
                  <a:tab algn="l" pos="10858680"/>
                  <a:tab algn="l" pos="11582280"/>
                  <a:tab algn="l" pos="12306240"/>
                  <a:tab algn="l" pos="13030200"/>
                  <a:tab algn="l" pos="13754160"/>
                  <a:tab algn="l" pos="14478120"/>
                  <a:tab algn="l" pos="15202080"/>
                  <a:tab algn="l" pos="15925680"/>
                  <a:tab algn="l" pos="16649640"/>
                  <a:tab algn="l" pos="17373600"/>
                  <a:tab algn="l" pos="18097560"/>
                  <a:tab algn="l" pos="18821520"/>
                  <a:tab algn="l" pos="19545480"/>
                  <a:tab algn="l" pos="20269080"/>
                  <a:tab algn="l" pos="20993040"/>
                  <a:tab algn="l" pos="21717000"/>
                  <a:tab algn="l" pos="22440960"/>
                  <a:tab algn="l" pos="23164920"/>
                  <a:tab algn="l" pos="23888880"/>
                  <a:tab algn="l" pos="24612480"/>
                  <a:tab algn="l" pos="25336440"/>
                  <a:tab algn="l" pos="26060400"/>
                  <a:tab algn="l" pos="26784360"/>
                  <a:tab algn="l" pos="27508320"/>
                  <a:tab algn="l" pos="28232280"/>
                  <a:tab algn="l" pos="28955880"/>
                  <a:tab algn="l" pos="29679840"/>
                  <a:tab algn="l" pos="304038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Courier New"/>
                  <a:ea typeface="HG Mincho Light J"/>
                </a:rPr>
                <a:t>&lt;import namespace="http://schemas.xmlsoap.org/soap/encoding/"/&gt;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134720"/>
                  <a:tab algn="l" pos="10858680"/>
                  <a:tab algn="l" pos="11582280"/>
                  <a:tab algn="l" pos="12306240"/>
                  <a:tab algn="l" pos="13030200"/>
                  <a:tab algn="l" pos="13754160"/>
                  <a:tab algn="l" pos="14478120"/>
                  <a:tab algn="l" pos="15202080"/>
                  <a:tab algn="l" pos="15925680"/>
                  <a:tab algn="l" pos="16649640"/>
                  <a:tab algn="l" pos="17373600"/>
                  <a:tab algn="l" pos="18097560"/>
                  <a:tab algn="l" pos="18821520"/>
                  <a:tab algn="l" pos="19545480"/>
                  <a:tab algn="l" pos="20269080"/>
                  <a:tab algn="l" pos="20993040"/>
                  <a:tab algn="l" pos="21717000"/>
                  <a:tab algn="l" pos="22440960"/>
                  <a:tab algn="l" pos="23164920"/>
                  <a:tab algn="l" pos="23888880"/>
                  <a:tab algn="l" pos="24612480"/>
                  <a:tab algn="l" pos="25336440"/>
                  <a:tab algn="l" pos="26060400"/>
                  <a:tab algn="l" pos="26784360"/>
                  <a:tab algn="l" pos="27508320"/>
                  <a:tab algn="l" pos="28232280"/>
                  <a:tab algn="l" pos="28955880"/>
                  <a:tab algn="l" pos="29679840"/>
                  <a:tab algn="l" pos="304038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Courier New"/>
                  <a:ea typeface="HG Mincho Light J"/>
                </a:rPr>
                <a:t>&lt;complexType name="ArrayOf_xsd_string"&gt;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134720"/>
                  <a:tab algn="l" pos="10858680"/>
                  <a:tab algn="l" pos="11582280"/>
                  <a:tab algn="l" pos="12306240"/>
                  <a:tab algn="l" pos="13030200"/>
                  <a:tab algn="l" pos="13754160"/>
                  <a:tab algn="l" pos="14478120"/>
                  <a:tab algn="l" pos="15202080"/>
                  <a:tab algn="l" pos="15925680"/>
                  <a:tab algn="l" pos="16649640"/>
                  <a:tab algn="l" pos="17373600"/>
                  <a:tab algn="l" pos="18097560"/>
                  <a:tab algn="l" pos="18821520"/>
                  <a:tab algn="l" pos="19545480"/>
                  <a:tab algn="l" pos="20269080"/>
                  <a:tab algn="l" pos="20993040"/>
                  <a:tab algn="l" pos="21717000"/>
                  <a:tab algn="l" pos="22440960"/>
                  <a:tab algn="l" pos="23164920"/>
                  <a:tab algn="l" pos="23888880"/>
                  <a:tab algn="l" pos="24612480"/>
                  <a:tab algn="l" pos="25336440"/>
                  <a:tab algn="l" pos="26060400"/>
                  <a:tab algn="l" pos="26784360"/>
                  <a:tab algn="l" pos="27508320"/>
                  <a:tab algn="l" pos="28232280"/>
                  <a:tab algn="l" pos="28955880"/>
                  <a:tab algn="l" pos="29679840"/>
                  <a:tab algn="l" pos="304038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Courier New"/>
                  <a:ea typeface="HG Mincho Light J"/>
                </a:rPr>
                <a:t>&lt;complexContent&gt;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134720"/>
                  <a:tab algn="l" pos="10858680"/>
                  <a:tab algn="l" pos="11582280"/>
                  <a:tab algn="l" pos="12306240"/>
                  <a:tab algn="l" pos="13030200"/>
                  <a:tab algn="l" pos="13754160"/>
                  <a:tab algn="l" pos="14478120"/>
                  <a:tab algn="l" pos="15202080"/>
                  <a:tab algn="l" pos="15925680"/>
                  <a:tab algn="l" pos="16649640"/>
                  <a:tab algn="l" pos="17373600"/>
                  <a:tab algn="l" pos="18097560"/>
                  <a:tab algn="l" pos="18821520"/>
                  <a:tab algn="l" pos="19545480"/>
                  <a:tab algn="l" pos="20269080"/>
                  <a:tab algn="l" pos="20993040"/>
                  <a:tab algn="l" pos="21717000"/>
                  <a:tab algn="l" pos="22440960"/>
                  <a:tab algn="l" pos="23164920"/>
                  <a:tab algn="l" pos="23888880"/>
                  <a:tab algn="l" pos="24612480"/>
                  <a:tab algn="l" pos="25336440"/>
                  <a:tab algn="l" pos="26060400"/>
                  <a:tab algn="l" pos="26784360"/>
                  <a:tab algn="l" pos="27508320"/>
                  <a:tab algn="l" pos="28232280"/>
                  <a:tab algn="l" pos="28955880"/>
                  <a:tab algn="l" pos="29679840"/>
                  <a:tab algn="l" pos="304038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Courier New"/>
                  <a:ea typeface="HG Mincho Light J"/>
                </a:rPr>
                <a:t> </a:t>
              </a:r>
              <a:r>
                <a:rPr b="0" lang="en-GB" sz="900" spc="-1" strike="noStrike">
                  <a:solidFill>
                    <a:srgbClr val="000000"/>
                  </a:solidFill>
                  <a:latin typeface="Courier New"/>
                  <a:ea typeface="HG Mincho Light J"/>
                </a:rPr>
                <a:t>&lt;restriction base="soapenc:Array"&gt;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134720"/>
                  <a:tab algn="l" pos="10858680"/>
                  <a:tab algn="l" pos="11582280"/>
                  <a:tab algn="l" pos="12306240"/>
                  <a:tab algn="l" pos="13030200"/>
                  <a:tab algn="l" pos="13754160"/>
                  <a:tab algn="l" pos="14478120"/>
                  <a:tab algn="l" pos="15202080"/>
                  <a:tab algn="l" pos="15925680"/>
                  <a:tab algn="l" pos="16649640"/>
                  <a:tab algn="l" pos="17373600"/>
                  <a:tab algn="l" pos="18097560"/>
                  <a:tab algn="l" pos="18821520"/>
                  <a:tab algn="l" pos="19545480"/>
                  <a:tab algn="l" pos="20269080"/>
                  <a:tab algn="l" pos="20993040"/>
                  <a:tab algn="l" pos="21717000"/>
                  <a:tab algn="l" pos="22440960"/>
                  <a:tab algn="l" pos="23164920"/>
                  <a:tab algn="l" pos="23888880"/>
                  <a:tab algn="l" pos="24612480"/>
                  <a:tab algn="l" pos="25336440"/>
                  <a:tab algn="l" pos="26060400"/>
                  <a:tab algn="l" pos="26784360"/>
                  <a:tab algn="l" pos="27508320"/>
                  <a:tab algn="l" pos="28232280"/>
                  <a:tab algn="l" pos="28955880"/>
                  <a:tab algn="l" pos="29679840"/>
                  <a:tab algn="l" pos="304038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Courier New"/>
                  <a:ea typeface="HG Mincho Light J"/>
                </a:rPr>
                <a:t>  </a:t>
              </a:r>
              <a:r>
                <a:rPr b="0" lang="en-GB" sz="900" spc="-1" strike="noStrike">
                  <a:solidFill>
                    <a:srgbClr val="000000"/>
                  </a:solidFill>
                  <a:latin typeface="Courier New"/>
                  <a:ea typeface="HG Mincho Light J"/>
                </a:rPr>
                <a:t>&lt;attribute ref="soapenc:arrayType" wsdl:arrayType="xsd:string[]"/&gt;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134720"/>
                  <a:tab algn="l" pos="10858680"/>
                  <a:tab algn="l" pos="11582280"/>
                  <a:tab algn="l" pos="12306240"/>
                  <a:tab algn="l" pos="13030200"/>
                  <a:tab algn="l" pos="13754160"/>
                  <a:tab algn="l" pos="14478120"/>
                  <a:tab algn="l" pos="15202080"/>
                  <a:tab algn="l" pos="15925680"/>
                  <a:tab algn="l" pos="16649640"/>
                  <a:tab algn="l" pos="17373600"/>
                  <a:tab algn="l" pos="18097560"/>
                  <a:tab algn="l" pos="18821520"/>
                  <a:tab algn="l" pos="19545480"/>
                  <a:tab algn="l" pos="20269080"/>
                  <a:tab algn="l" pos="20993040"/>
                  <a:tab algn="l" pos="21717000"/>
                  <a:tab algn="l" pos="22440960"/>
                  <a:tab algn="l" pos="23164920"/>
                  <a:tab algn="l" pos="23888880"/>
                  <a:tab algn="l" pos="24612480"/>
                  <a:tab algn="l" pos="25336440"/>
                  <a:tab algn="l" pos="26060400"/>
                  <a:tab algn="l" pos="26784360"/>
                  <a:tab algn="l" pos="27508320"/>
                  <a:tab algn="l" pos="28232280"/>
                  <a:tab algn="l" pos="28955880"/>
                  <a:tab algn="l" pos="29679840"/>
                  <a:tab algn="l" pos="304038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Courier New"/>
                  <a:ea typeface="HG Mincho Light J"/>
                </a:rPr>
                <a:t> </a:t>
              </a:r>
              <a:r>
                <a:rPr b="0" lang="en-GB" sz="900" spc="-1" strike="noStrike">
                  <a:solidFill>
                    <a:srgbClr val="000000"/>
                  </a:solidFill>
                  <a:latin typeface="Courier New"/>
                  <a:ea typeface="HG Mincho Light J"/>
                </a:rPr>
                <a:t>&lt;/restriction&gt;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134720"/>
                  <a:tab algn="l" pos="10858680"/>
                  <a:tab algn="l" pos="11582280"/>
                  <a:tab algn="l" pos="12306240"/>
                  <a:tab algn="l" pos="13030200"/>
                  <a:tab algn="l" pos="13754160"/>
                  <a:tab algn="l" pos="14478120"/>
                  <a:tab algn="l" pos="15202080"/>
                  <a:tab algn="l" pos="15925680"/>
                  <a:tab algn="l" pos="16649640"/>
                  <a:tab algn="l" pos="17373600"/>
                  <a:tab algn="l" pos="18097560"/>
                  <a:tab algn="l" pos="18821520"/>
                  <a:tab algn="l" pos="19545480"/>
                  <a:tab algn="l" pos="20269080"/>
                  <a:tab algn="l" pos="20993040"/>
                  <a:tab algn="l" pos="21717000"/>
                  <a:tab algn="l" pos="22440960"/>
                  <a:tab algn="l" pos="23164920"/>
                  <a:tab algn="l" pos="23888880"/>
                  <a:tab algn="l" pos="24612480"/>
                  <a:tab algn="l" pos="25336440"/>
                  <a:tab algn="l" pos="26060400"/>
                  <a:tab algn="l" pos="26784360"/>
                  <a:tab algn="l" pos="27508320"/>
                  <a:tab algn="l" pos="28232280"/>
                  <a:tab algn="l" pos="28955880"/>
                  <a:tab algn="l" pos="29679840"/>
                  <a:tab algn="l" pos="304038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Courier New"/>
                  <a:ea typeface="HG Mincho Light J"/>
                </a:rPr>
                <a:t>&lt;/complexContent&gt;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134720"/>
                  <a:tab algn="l" pos="10858680"/>
                  <a:tab algn="l" pos="11582280"/>
                  <a:tab algn="l" pos="12306240"/>
                  <a:tab algn="l" pos="13030200"/>
                  <a:tab algn="l" pos="13754160"/>
                  <a:tab algn="l" pos="14478120"/>
                  <a:tab algn="l" pos="15202080"/>
                  <a:tab algn="l" pos="15925680"/>
                  <a:tab algn="l" pos="16649640"/>
                  <a:tab algn="l" pos="17373600"/>
                  <a:tab algn="l" pos="18097560"/>
                  <a:tab algn="l" pos="18821520"/>
                  <a:tab algn="l" pos="19545480"/>
                  <a:tab algn="l" pos="20269080"/>
                  <a:tab algn="l" pos="20993040"/>
                  <a:tab algn="l" pos="21717000"/>
                  <a:tab algn="l" pos="22440960"/>
                  <a:tab algn="l" pos="23164920"/>
                  <a:tab algn="l" pos="23888880"/>
                  <a:tab algn="l" pos="24612480"/>
                  <a:tab algn="l" pos="25336440"/>
                  <a:tab algn="l" pos="26060400"/>
                  <a:tab algn="l" pos="26784360"/>
                  <a:tab algn="l" pos="27508320"/>
                  <a:tab algn="l" pos="28232280"/>
                  <a:tab algn="l" pos="28955880"/>
                  <a:tab algn="l" pos="29679840"/>
                  <a:tab algn="l" pos="304038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Courier New"/>
                  <a:ea typeface="HG Mincho Light J"/>
                </a:rPr>
                <a:t>&lt;/complexType&gt;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134720"/>
                  <a:tab algn="l" pos="10858680"/>
                  <a:tab algn="l" pos="11582280"/>
                  <a:tab algn="l" pos="12306240"/>
                  <a:tab algn="l" pos="13030200"/>
                  <a:tab algn="l" pos="13754160"/>
                  <a:tab algn="l" pos="14478120"/>
                  <a:tab algn="l" pos="15202080"/>
                  <a:tab algn="l" pos="15925680"/>
                  <a:tab algn="l" pos="16649640"/>
                  <a:tab algn="l" pos="17373600"/>
                  <a:tab algn="l" pos="18097560"/>
                  <a:tab algn="l" pos="18821520"/>
                  <a:tab algn="l" pos="19545480"/>
                  <a:tab algn="l" pos="20269080"/>
                  <a:tab algn="l" pos="20993040"/>
                  <a:tab algn="l" pos="21717000"/>
                  <a:tab algn="l" pos="22440960"/>
                  <a:tab algn="l" pos="23164920"/>
                  <a:tab algn="l" pos="23888880"/>
                  <a:tab algn="l" pos="24612480"/>
                  <a:tab algn="l" pos="25336440"/>
                  <a:tab algn="l" pos="26060400"/>
                  <a:tab algn="l" pos="26784360"/>
                  <a:tab algn="l" pos="27508320"/>
                  <a:tab algn="l" pos="28232280"/>
                  <a:tab algn="l" pos="28955880"/>
                  <a:tab algn="l" pos="29679840"/>
                  <a:tab algn="l" pos="304038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Courier New"/>
                  <a:ea typeface="HG Mincho Light J"/>
                </a:rPr>
                <a:t>&lt;/schema&gt;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134720"/>
                  <a:tab algn="l" pos="10858680"/>
                  <a:tab algn="l" pos="11582280"/>
                  <a:tab algn="l" pos="12306240"/>
                  <a:tab algn="l" pos="13030200"/>
                  <a:tab algn="l" pos="13754160"/>
                  <a:tab algn="l" pos="14478120"/>
                  <a:tab algn="l" pos="15202080"/>
                  <a:tab algn="l" pos="15925680"/>
                  <a:tab algn="l" pos="16649640"/>
                  <a:tab algn="l" pos="17373600"/>
                  <a:tab algn="l" pos="18097560"/>
                  <a:tab algn="l" pos="18821520"/>
                  <a:tab algn="l" pos="19545480"/>
                  <a:tab algn="l" pos="20269080"/>
                  <a:tab algn="l" pos="20993040"/>
                  <a:tab algn="l" pos="21717000"/>
                  <a:tab algn="l" pos="22440960"/>
                  <a:tab algn="l" pos="23164920"/>
                  <a:tab algn="l" pos="23888880"/>
                  <a:tab algn="l" pos="24612480"/>
                  <a:tab algn="l" pos="25336440"/>
                  <a:tab algn="l" pos="26060400"/>
                  <a:tab algn="l" pos="26784360"/>
                  <a:tab algn="l" pos="27508320"/>
                  <a:tab algn="l" pos="28232280"/>
                  <a:tab algn="l" pos="28955880"/>
                  <a:tab algn="l" pos="29679840"/>
                  <a:tab algn="l" pos="304038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Courier New"/>
                  <a:ea typeface="HG Mincho Light J"/>
                </a:rPr>
                <a:t>&lt;/wsdl:types&gt;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134720"/>
                  <a:tab algn="l" pos="10858680"/>
                  <a:tab algn="l" pos="11582280"/>
                  <a:tab algn="l" pos="12306240"/>
                  <a:tab algn="l" pos="13030200"/>
                  <a:tab algn="l" pos="13754160"/>
                  <a:tab algn="l" pos="14478120"/>
                  <a:tab algn="l" pos="15202080"/>
                  <a:tab algn="l" pos="15925680"/>
                  <a:tab algn="l" pos="16649640"/>
                  <a:tab algn="l" pos="17373600"/>
                  <a:tab algn="l" pos="18097560"/>
                  <a:tab algn="l" pos="18821520"/>
                  <a:tab algn="l" pos="19545480"/>
                  <a:tab algn="l" pos="20269080"/>
                  <a:tab algn="l" pos="20993040"/>
                  <a:tab algn="l" pos="21717000"/>
                  <a:tab algn="l" pos="22440960"/>
                  <a:tab algn="l" pos="23164920"/>
                  <a:tab algn="l" pos="23888880"/>
                  <a:tab algn="l" pos="24612480"/>
                  <a:tab algn="l" pos="25336440"/>
                  <a:tab algn="l" pos="26060400"/>
                  <a:tab algn="l" pos="26784360"/>
                  <a:tab algn="l" pos="27508320"/>
                  <a:tab algn="l" pos="28232280"/>
                  <a:tab algn="l" pos="28955880"/>
                  <a:tab algn="l" pos="29679840"/>
                  <a:tab algn="l" pos="304038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Courier New"/>
                  <a:ea typeface="HG Mincho Light J"/>
                </a:rPr>
                <a:t>&lt;!-- ... --&gt;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134720"/>
                  <a:tab algn="l" pos="10858680"/>
                  <a:tab algn="l" pos="11582280"/>
                  <a:tab algn="l" pos="12306240"/>
                  <a:tab algn="l" pos="13030200"/>
                  <a:tab algn="l" pos="13754160"/>
                  <a:tab algn="l" pos="14478120"/>
                  <a:tab algn="l" pos="15202080"/>
                  <a:tab algn="l" pos="15925680"/>
                  <a:tab algn="l" pos="16649640"/>
                  <a:tab algn="l" pos="17373600"/>
                  <a:tab algn="l" pos="18097560"/>
                  <a:tab algn="l" pos="18821520"/>
                  <a:tab algn="l" pos="19545480"/>
                  <a:tab algn="l" pos="20269080"/>
                  <a:tab algn="l" pos="20993040"/>
                  <a:tab algn="l" pos="21717000"/>
                  <a:tab algn="l" pos="22440960"/>
                  <a:tab algn="l" pos="23164920"/>
                  <a:tab algn="l" pos="23888880"/>
                  <a:tab algn="l" pos="24612480"/>
                  <a:tab algn="l" pos="25336440"/>
                  <a:tab algn="l" pos="26060400"/>
                  <a:tab algn="l" pos="26784360"/>
                  <a:tab algn="l" pos="27508320"/>
                  <a:tab algn="l" pos="28232280"/>
                  <a:tab algn="l" pos="28955880"/>
                  <a:tab algn="l" pos="29679840"/>
                  <a:tab algn="l" pos="304038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Courier New"/>
                  <a:ea typeface="HG Mincho Light J"/>
                </a:rPr>
                <a:t>&lt;wsdl:service name="DirectoryService"&gt;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134720"/>
                  <a:tab algn="l" pos="10858680"/>
                  <a:tab algn="l" pos="11582280"/>
                  <a:tab algn="l" pos="12306240"/>
                  <a:tab algn="l" pos="13030200"/>
                  <a:tab algn="l" pos="13754160"/>
                  <a:tab algn="l" pos="14478120"/>
                  <a:tab algn="l" pos="15202080"/>
                  <a:tab algn="l" pos="15925680"/>
                  <a:tab algn="l" pos="16649640"/>
                  <a:tab algn="l" pos="17373600"/>
                  <a:tab algn="l" pos="18097560"/>
                  <a:tab algn="l" pos="18821520"/>
                  <a:tab algn="l" pos="19545480"/>
                  <a:tab algn="l" pos="20269080"/>
                  <a:tab algn="l" pos="20993040"/>
                  <a:tab algn="l" pos="21717000"/>
                  <a:tab algn="l" pos="22440960"/>
                  <a:tab algn="l" pos="23164920"/>
                  <a:tab algn="l" pos="23888880"/>
                  <a:tab algn="l" pos="24612480"/>
                  <a:tab algn="l" pos="25336440"/>
                  <a:tab algn="l" pos="26060400"/>
                  <a:tab algn="l" pos="26784360"/>
                  <a:tab algn="l" pos="27508320"/>
                  <a:tab algn="l" pos="28232280"/>
                  <a:tab algn="l" pos="28955880"/>
                  <a:tab algn="l" pos="29679840"/>
                  <a:tab algn="l" pos="304038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Courier New"/>
                  <a:ea typeface="HG Mincho Light J"/>
                </a:rPr>
                <a:t>  </a:t>
              </a:r>
              <a:r>
                <a:rPr b="0" lang="en-GB" sz="900" spc="-1" strike="noStrike">
                  <a:solidFill>
                    <a:srgbClr val="000000"/>
                  </a:solidFill>
                  <a:latin typeface="Courier New"/>
                  <a:ea typeface="HG Mincho Light J"/>
                </a:rPr>
                <a:t>&lt;wsdl:port name="directory" binding="impl:directorySoapBinding"&gt;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134720"/>
                  <a:tab algn="l" pos="10858680"/>
                  <a:tab algn="l" pos="11582280"/>
                  <a:tab algn="l" pos="12306240"/>
                  <a:tab algn="l" pos="13030200"/>
                  <a:tab algn="l" pos="13754160"/>
                  <a:tab algn="l" pos="14478120"/>
                  <a:tab algn="l" pos="15202080"/>
                  <a:tab algn="l" pos="15925680"/>
                  <a:tab algn="l" pos="16649640"/>
                  <a:tab algn="l" pos="17373600"/>
                  <a:tab algn="l" pos="18097560"/>
                  <a:tab algn="l" pos="18821520"/>
                  <a:tab algn="l" pos="19545480"/>
                  <a:tab algn="l" pos="20269080"/>
                  <a:tab algn="l" pos="20993040"/>
                  <a:tab algn="l" pos="21717000"/>
                  <a:tab algn="l" pos="22440960"/>
                  <a:tab algn="l" pos="23164920"/>
                  <a:tab algn="l" pos="23888880"/>
                  <a:tab algn="l" pos="24612480"/>
                  <a:tab algn="l" pos="25336440"/>
                  <a:tab algn="l" pos="26060400"/>
                  <a:tab algn="l" pos="26784360"/>
                  <a:tab algn="l" pos="27508320"/>
                  <a:tab algn="l" pos="28232280"/>
                  <a:tab algn="l" pos="28955880"/>
                  <a:tab algn="l" pos="29679840"/>
                  <a:tab algn="l" pos="304038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Courier New"/>
                  <a:ea typeface="HG Mincho Light J"/>
                </a:rPr>
                <a:t>     </a:t>
              </a:r>
              <a:r>
                <a:rPr b="0" lang="en-GB" sz="900" spc="-1" strike="noStrike">
                  <a:solidFill>
                    <a:srgbClr val="000000"/>
                  </a:solidFill>
                  <a:latin typeface="Courier New"/>
                  <a:ea typeface="HG Mincho Light J"/>
                </a:rPr>
                <a:t>&lt;wsdlsoap:address location="http://eugenes.org/axis/services/directory"/&gt;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134720"/>
                  <a:tab algn="l" pos="10858680"/>
                  <a:tab algn="l" pos="11582280"/>
                  <a:tab algn="l" pos="12306240"/>
                  <a:tab algn="l" pos="13030200"/>
                  <a:tab algn="l" pos="13754160"/>
                  <a:tab algn="l" pos="14478120"/>
                  <a:tab algn="l" pos="15202080"/>
                  <a:tab algn="l" pos="15925680"/>
                  <a:tab algn="l" pos="16649640"/>
                  <a:tab algn="l" pos="17373600"/>
                  <a:tab algn="l" pos="18097560"/>
                  <a:tab algn="l" pos="18821520"/>
                  <a:tab algn="l" pos="19545480"/>
                  <a:tab algn="l" pos="20269080"/>
                  <a:tab algn="l" pos="20993040"/>
                  <a:tab algn="l" pos="21717000"/>
                  <a:tab algn="l" pos="22440960"/>
                  <a:tab algn="l" pos="23164920"/>
                  <a:tab algn="l" pos="23888880"/>
                  <a:tab algn="l" pos="24612480"/>
                  <a:tab algn="l" pos="25336440"/>
                  <a:tab algn="l" pos="26060400"/>
                  <a:tab algn="l" pos="26784360"/>
                  <a:tab algn="l" pos="27508320"/>
                  <a:tab algn="l" pos="28232280"/>
                  <a:tab algn="l" pos="28955880"/>
                  <a:tab algn="l" pos="29679840"/>
                  <a:tab algn="l" pos="304038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Courier New"/>
                  <a:ea typeface="HG Mincho Light J"/>
                </a:rPr>
                <a:t>  </a:t>
              </a:r>
              <a:r>
                <a:rPr b="0" lang="en-GB" sz="900" spc="-1" strike="noStrike">
                  <a:solidFill>
                    <a:srgbClr val="000000"/>
                  </a:solidFill>
                  <a:latin typeface="Courier New"/>
                  <a:ea typeface="HG Mincho Light J"/>
                </a:rPr>
                <a:t>&lt;/wsdl:port&gt;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134720"/>
                  <a:tab algn="l" pos="10858680"/>
                  <a:tab algn="l" pos="11582280"/>
                  <a:tab algn="l" pos="12306240"/>
                  <a:tab algn="l" pos="13030200"/>
                  <a:tab algn="l" pos="13754160"/>
                  <a:tab algn="l" pos="14478120"/>
                  <a:tab algn="l" pos="15202080"/>
                  <a:tab algn="l" pos="15925680"/>
                  <a:tab algn="l" pos="16649640"/>
                  <a:tab algn="l" pos="17373600"/>
                  <a:tab algn="l" pos="18097560"/>
                  <a:tab algn="l" pos="18821520"/>
                  <a:tab algn="l" pos="19545480"/>
                  <a:tab algn="l" pos="20269080"/>
                  <a:tab algn="l" pos="20993040"/>
                  <a:tab algn="l" pos="21717000"/>
                  <a:tab algn="l" pos="22440960"/>
                  <a:tab algn="l" pos="23164920"/>
                  <a:tab algn="l" pos="23888880"/>
                  <a:tab algn="l" pos="24612480"/>
                  <a:tab algn="l" pos="25336440"/>
                  <a:tab algn="l" pos="26060400"/>
                  <a:tab algn="l" pos="26784360"/>
                  <a:tab algn="l" pos="27508320"/>
                  <a:tab algn="l" pos="28232280"/>
                  <a:tab algn="l" pos="28955880"/>
                  <a:tab algn="l" pos="29679840"/>
                  <a:tab algn="l" pos="304038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Courier New"/>
                  <a:ea typeface="HG Mincho Light J"/>
                </a:rPr>
                <a:t>&lt;/wsdl:service&gt;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134720"/>
                  <a:tab algn="l" pos="10858680"/>
                  <a:tab algn="l" pos="11582280"/>
                  <a:tab algn="l" pos="12306240"/>
                  <a:tab algn="l" pos="13030200"/>
                  <a:tab algn="l" pos="13754160"/>
                  <a:tab algn="l" pos="14478120"/>
                  <a:tab algn="l" pos="15202080"/>
                  <a:tab algn="l" pos="15925680"/>
                  <a:tab algn="l" pos="16649640"/>
                  <a:tab algn="l" pos="17373600"/>
                  <a:tab algn="l" pos="18097560"/>
                  <a:tab algn="l" pos="18821520"/>
                  <a:tab algn="l" pos="19545480"/>
                  <a:tab algn="l" pos="20269080"/>
                  <a:tab algn="l" pos="20993040"/>
                  <a:tab algn="l" pos="21717000"/>
                  <a:tab algn="l" pos="22440960"/>
                  <a:tab algn="l" pos="23164920"/>
                  <a:tab algn="l" pos="23888880"/>
                  <a:tab algn="l" pos="24612480"/>
                  <a:tab algn="l" pos="25336440"/>
                  <a:tab algn="l" pos="26060400"/>
                  <a:tab algn="l" pos="26784360"/>
                  <a:tab algn="l" pos="27508320"/>
                  <a:tab algn="l" pos="28232280"/>
                  <a:tab algn="l" pos="28955880"/>
                  <a:tab algn="l" pos="29679840"/>
                  <a:tab algn="l" pos="304038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Courier New"/>
                  <a:ea typeface="HG Mincho Light J"/>
                </a:rPr>
                <a:t>&lt;wsdl:portType name="Directory"&gt;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134720"/>
                  <a:tab algn="l" pos="10858680"/>
                  <a:tab algn="l" pos="11582280"/>
                  <a:tab algn="l" pos="12306240"/>
                  <a:tab algn="l" pos="13030200"/>
                  <a:tab algn="l" pos="13754160"/>
                  <a:tab algn="l" pos="14478120"/>
                  <a:tab algn="l" pos="15202080"/>
                  <a:tab algn="l" pos="15925680"/>
                  <a:tab algn="l" pos="16649640"/>
                  <a:tab algn="l" pos="17373600"/>
                  <a:tab algn="l" pos="18097560"/>
                  <a:tab algn="l" pos="18821520"/>
                  <a:tab algn="l" pos="19545480"/>
                  <a:tab algn="l" pos="20269080"/>
                  <a:tab algn="l" pos="20993040"/>
                  <a:tab algn="l" pos="21717000"/>
                  <a:tab algn="l" pos="22440960"/>
                  <a:tab algn="l" pos="23164920"/>
                  <a:tab algn="l" pos="23888880"/>
                  <a:tab algn="l" pos="24612480"/>
                  <a:tab algn="l" pos="25336440"/>
                  <a:tab algn="l" pos="26060400"/>
                  <a:tab algn="l" pos="26784360"/>
                  <a:tab algn="l" pos="27508320"/>
                  <a:tab algn="l" pos="28232280"/>
                  <a:tab algn="l" pos="28955880"/>
                  <a:tab algn="l" pos="29679840"/>
                  <a:tab algn="l" pos="304038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Courier New"/>
                  <a:ea typeface="HG Mincho Light J"/>
                </a:rPr>
                <a:t>  </a:t>
              </a:r>
              <a:r>
                <a:rPr b="0" lang="en-GB" sz="900" spc="-1" strike="noStrike">
                  <a:solidFill>
                    <a:srgbClr val="000000"/>
                  </a:solidFill>
                  <a:latin typeface="Courier New"/>
                  <a:ea typeface="HG Mincho Light J"/>
                </a:rPr>
                <a:t>&lt;wsdl:operation name="formats" parameterOrder="sid"&gt;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134720"/>
                  <a:tab algn="l" pos="10858680"/>
                  <a:tab algn="l" pos="11582280"/>
                  <a:tab algn="l" pos="12306240"/>
                  <a:tab algn="l" pos="13030200"/>
                  <a:tab algn="l" pos="13754160"/>
                  <a:tab algn="l" pos="14478120"/>
                  <a:tab algn="l" pos="15202080"/>
                  <a:tab algn="l" pos="15925680"/>
                  <a:tab algn="l" pos="16649640"/>
                  <a:tab algn="l" pos="17373600"/>
                  <a:tab algn="l" pos="18097560"/>
                  <a:tab algn="l" pos="18821520"/>
                  <a:tab algn="l" pos="19545480"/>
                  <a:tab algn="l" pos="20269080"/>
                  <a:tab algn="l" pos="20993040"/>
                  <a:tab algn="l" pos="21717000"/>
                  <a:tab algn="l" pos="22440960"/>
                  <a:tab algn="l" pos="23164920"/>
                  <a:tab algn="l" pos="23888880"/>
                  <a:tab algn="l" pos="24612480"/>
                  <a:tab algn="l" pos="25336440"/>
                  <a:tab algn="l" pos="26060400"/>
                  <a:tab algn="l" pos="26784360"/>
                  <a:tab algn="l" pos="27508320"/>
                  <a:tab algn="l" pos="28232280"/>
                  <a:tab algn="l" pos="28955880"/>
                  <a:tab algn="l" pos="29679840"/>
                  <a:tab algn="l" pos="304038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Courier New"/>
                  <a:ea typeface="HG Mincho Light J"/>
                </a:rPr>
                <a:t>     </a:t>
              </a:r>
              <a:r>
                <a:rPr b="0" lang="en-GB" sz="900" spc="-1" strike="noStrike">
                  <a:solidFill>
                    <a:srgbClr val="000000"/>
                  </a:solidFill>
                  <a:latin typeface="Courier New"/>
                  <a:ea typeface="HG Mincho Light J"/>
                </a:rPr>
                <a:t>&lt;wsdl:input name="formatsRequest" message="impl:formatsRequest"/&gt;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134720"/>
                  <a:tab algn="l" pos="10858680"/>
                  <a:tab algn="l" pos="11582280"/>
                  <a:tab algn="l" pos="12306240"/>
                  <a:tab algn="l" pos="13030200"/>
                  <a:tab algn="l" pos="13754160"/>
                  <a:tab algn="l" pos="14478120"/>
                  <a:tab algn="l" pos="15202080"/>
                  <a:tab algn="l" pos="15925680"/>
                  <a:tab algn="l" pos="16649640"/>
                  <a:tab algn="l" pos="17373600"/>
                  <a:tab algn="l" pos="18097560"/>
                  <a:tab algn="l" pos="18821520"/>
                  <a:tab algn="l" pos="19545480"/>
                  <a:tab algn="l" pos="20269080"/>
                  <a:tab algn="l" pos="20993040"/>
                  <a:tab algn="l" pos="21717000"/>
                  <a:tab algn="l" pos="22440960"/>
                  <a:tab algn="l" pos="23164920"/>
                  <a:tab algn="l" pos="23888880"/>
                  <a:tab algn="l" pos="24612480"/>
                  <a:tab algn="l" pos="25336440"/>
                  <a:tab algn="l" pos="26060400"/>
                  <a:tab algn="l" pos="26784360"/>
                  <a:tab algn="l" pos="27508320"/>
                  <a:tab algn="l" pos="28232280"/>
                  <a:tab algn="l" pos="28955880"/>
                  <a:tab algn="l" pos="29679840"/>
                  <a:tab algn="l" pos="304038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Courier New"/>
                  <a:ea typeface="HG Mincho Light J"/>
                </a:rPr>
                <a:t>     </a:t>
              </a:r>
              <a:r>
                <a:rPr b="0" lang="en-GB" sz="900" spc="-1" strike="noStrike">
                  <a:solidFill>
                    <a:srgbClr val="000000"/>
                  </a:solidFill>
                  <a:latin typeface="Courier New"/>
                  <a:ea typeface="HG Mincho Light J"/>
                </a:rPr>
                <a:t>&lt;wsdl:output name="formatsResponse" message="impl:formatsResponse"/&gt;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134720"/>
                  <a:tab algn="l" pos="10858680"/>
                  <a:tab algn="l" pos="11582280"/>
                  <a:tab algn="l" pos="12306240"/>
                  <a:tab algn="l" pos="13030200"/>
                  <a:tab algn="l" pos="13754160"/>
                  <a:tab algn="l" pos="14478120"/>
                  <a:tab algn="l" pos="15202080"/>
                  <a:tab algn="l" pos="15925680"/>
                  <a:tab algn="l" pos="16649640"/>
                  <a:tab algn="l" pos="17373600"/>
                  <a:tab algn="l" pos="18097560"/>
                  <a:tab algn="l" pos="18821520"/>
                  <a:tab algn="l" pos="19545480"/>
                  <a:tab algn="l" pos="20269080"/>
                  <a:tab algn="l" pos="20993040"/>
                  <a:tab algn="l" pos="21717000"/>
                  <a:tab algn="l" pos="22440960"/>
                  <a:tab algn="l" pos="23164920"/>
                  <a:tab algn="l" pos="23888880"/>
                  <a:tab algn="l" pos="24612480"/>
                  <a:tab algn="l" pos="25336440"/>
                  <a:tab algn="l" pos="26060400"/>
                  <a:tab algn="l" pos="26784360"/>
                  <a:tab algn="l" pos="27508320"/>
                  <a:tab algn="l" pos="28232280"/>
                  <a:tab algn="l" pos="28955880"/>
                  <a:tab algn="l" pos="29679840"/>
                  <a:tab algn="l" pos="304038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Courier New"/>
                  <a:ea typeface="HG Mincho Light J"/>
                </a:rPr>
                <a:t>  </a:t>
              </a:r>
              <a:r>
                <a:rPr b="0" lang="en-GB" sz="900" spc="-1" strike="noStrike">
                  <a:solidFill>
                    <a:srgbClr val="000000"/>
                  </a:solidFill>
                  <a:latin typeface="Courier New"/>
                  <a:ea typeface="HG Mincho Light J"/>
                </a:rPr>
                <a:t>&lt;/wsdl:operation&gt;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134720"/>
                  <a:tab algn="l" pos="10858680"/>
                  <a:tab algn="l" pos="11582280"/>
                  <a:tab algn="l" pos="12306240"/>
                  <a:tab algn="l" pos="13030200"/>
                  <a:tab algn="l" pos="13754160"/>
                  <a:tab algn="l" pos="14478120"/>
                  <a:tab algn="l" pos="15202080"/>
                  <a:tab algn="l" pos="15925680"/>
                  <a:tab algn="l" pos="16649640"/>
                  <a:tab algn="l" pos="17373600"/>
                  <a:tab algn="l" pos="18097560"/>
                  <a:tab algn="l" pos="18821520"/>
                  <a:tab algn="l" pos="19545480"/>
                  <a:tab algn="l" pos="20269080"/>
                  <a:tab algn="l" pos="20993040"/>
                  <a:tab algn="l" pos="21717000"/>
                  <a:tab algn="l" pos="22440960"/>
                  <a:tab algn="l" pos="23164920"/>
                  <a:tab algn="l" pos="23888880"/>
                  <a:tab algn="l" pos="24612480"/>
                  <a:tab algn="l" pos="25336440"/>
                  <a:tab algn="l" pos="26060400"/>
                  <a:tab algn="l" pos="26784360"/>
                  <a:tab algn="l" pos="27508320"/>
                  <a:tab algn="l" pos="28232280"/>
                  <a:tab algn="l" pos="28955880"/>
                  <a:tab algn="l" pos="29679840"/>
                  <a:tab algn="l" pos="304038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Courier New"/>
                  <a:ea typeface="HG Mincho Light J"/>
                </a:rPr>
                <a:t>  </a:t>
              </a:r>
              <a:r>
                <a:rPr b="0" lang="en-GB" sz="900" spc="-1" strike="noStrike">
                  <a:solidFill>
                    <a:srgbClr val="000000"/>
                  </a:solidFill>
                  <a:latin typeface="Courier New"/>
                  <a:ea typeface="HG Mincho Light J"/>
                </a:rPr>
                <a:t>&lt;wsdl:operation name="library" parameterOrder="name"&gt;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134720"/>
                  <a:tab algn="l" pos="10858680"/>
                  <a:tab algn="l" pos="11582280"/>
                  <a:tab algn="l" pos="12306240"/>
                  <a:tab algn="l" pos="13030200"/>
                  <a:tab algn="l" pos="13754160"/>
                  <a:tab algn="l" pos="14478120"/>
                  <a:tab algn="l" pos="15202080"/>
                  <a:tab algn="l" pos="15925680"/>
                  <a:tab algn="l" pos="16649640"/>
                  <a:tab algn="l" pos="17373600"/>
                  <a:tab algn="l" pos="18097560"/>
                  <a:tab algn="l" pos="18821520"/>
                  <a:tab algn="l" pos="19545480"/>
                  <a:tab algn="l" pos="20269080"/>
                  <a:tab algn="l" pos="20993040"/>
                  <a:tab algn="l" pos="21717000"/>
                  <a:tab algn="l" pos="22440960"/>
                  <a:tab algn="l" pos="23164920"/>
                  <a:tab algn="l" pos="23888880"/>
                  <a:tab algn="l" pos="24612480"/>
                  <a:tab algn="l" pos="25336440"/>
                  <a:tab algn="l" pos="26060400"/>
                  <a:tab algn="l" pos="26784360"/>
                  <a:tab algn="l" pos="27508320"/>
                  <a:tab algn="l" pos="28232280"/>
                  <a:tab algn="l" pos="28955880"/>
                  <a:tab algn="l" pos="29679840"/>
                  <a:tab algn="l" pos="304038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Courier New"/>
                  <a:ea typeface="HG Mincho Light J"/>
                </a:rPr>
                <a:t>     </a:t>
              </a:r>
              <a:r>
                <a:rPr b="0" lang="en-GB" sz="900" spc="-1" strike="noStrike">
                  <a:solidFill>
                    <a:srgbClr val="000000"/>
                  </a:solidFill>
                  <a:latin typeface="Courier New"/>
                  <a:ea typeface="HG Mincho Light J"/>
                </a:rPr>
                <a:t>&lt;wsdl:input name="libraryRequest" message="impl:libraryRequest"/&gt;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134720"/>
                  <a:tab algn="l" pos="10858680"/>
                  <a:tab algn="l" pos="11582280"/>
                  <a:tab algn="l" pos="12306240"/>
                  <a:tab algn="l" pos="13030200"/>
                  <a:tab algn="l" pos="13754160"/>
                  <a:tab algn="l" pos="14478120"/>
                  <a:tab algn="l" pos="15202080"/>
                  <a:tab algn="l" pos="15925680"/>
                  <a:tab algn="l" pos="16649640"/>
                  <a:tab algn="l" pos="17373600"/>
                  <a:tab algn="l" pos="18097560"/>
                  <a:tab algn="l" pos="18821520"/>
                  <a:tab algn="l" pos="19545480"/>
                  <a:tab algn="l" pos="20269080"/>
                  <a:tab algn="l" pos="20993040"/>
                  <a:tab algn="l" pos="21717000"/>
                  <a:tab algn="l" pos="22440960"/>
                  <a:tab algn="l" pos="23164920"/>
                  <a:tab algn="l" pos="23888880"/>
                  <a:tab algn="l" pos="24612480"/>
                  <a:tab algn="l" pos="25336440"/>
                  <a:tab algn="l" pos="26060400"/>
                  <a:tab algn="l" pos="26784360"/>
                  <a:tab algn="l" pos="27508320"/>
                  <a:tab algn="l" pos="28232280"/>
                  <a:tab algn="l" pos="28955880"/>
                  <a:tab algn="l" pos="29679840"/>
                  <a:tab algn="l" pos="304038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Courier New"/>
                  <a:ea typeface="HG Mincho Light J"/>
                </a:rPr>
                <a:t>     </a:t>
              </a:r>
              <a:r>
                <a:rPr b="0" lang="en-GB" sz="900" spc="-1" strike="noStrike">
                  <a:solidFill>
                    <a:srgbClr val="000000"/>
                  </a:solidFill>
                  <a:latin typeface="Courier New"/>
                  <a:ea typeface="HG Mincho Light J"/>
                </a:rPr>
                <a:t>&lt;wsdl:output name="libraryResponse" message="impl:libraryResponse"/&gt;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134720"/>
                  <a:tab algn="l" pos="10858680"/>
                  <a:tab algn="l" pos="11582280"/>
                  <a:tab algn="l" pos="12306240"/>
                  <a:tab algn="l" pos="13030200"/>
                  <a:tab algn="l" pos="13754160"/>
                  <a:tab algn="l" pos="14478120"/>
                  <a:tab algn="l" pos="15202080"/>
                  <a:tab algn="l" pos="15925680"/>
                  <a:tab algn="l" pos="16649640"/>
                  <a:tab algn="l" pos="17373600"/>
                  <a:tab algn="l" pos="18097560"/>
                  <a:tab algn="l" pos="18821520"/>
                  <a:tab algn="l" pos="19545480"/>
                  <a:tab algn="l" pos="20269080"/>
                  <a:tab algn="l" pos="20993040"/>
                  <a:tab algn="l" pos="21717000"/>
                  <a:tab algn="l" pos="22440960"/>
                  <a:tab algn="l" pos="23164920"/>
                  <a:tab algn="l" pos="23888880"/>
                  <a:tab algn="l" pos="24612480"/>
                  <a:tab algn="l" pos="25336440"/>
                  <a:tab algn="l" pos="26060400"/>
                  <a:tab algn="l" pos="26784360"/>
                  <a:tab algn="l" pos="27508320"/>
                  <a:tab algn="l" pos="28232280"/>
                  <a:tab algn="l" pos="28955880"/>
                  <a:tab algn="l" pos="29679840"/>
                  <a:tab algn="l" pos="304038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Courier New"/>
                  <a:ea typeface="HG Mincho Light J"/>
                </a:rPr>
                <a:t>  </a:t>
              </a:r>
              <a:r>
                <a:rPr b="0" lang="en-GB" sz="900" spc="-1" strike="noStrike">
                  <a:solidFill>
                    <a:srgbClr val="000000"/>
                  </a:solidFill>
                  <a:latin typeface="Courier New"/>
                  <a:ea typeface="HG Mincho Light J"/>
                </a:rPr>
                <a:t>&lt;/wsdl:operation&gt;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134720"/>
                  <a:tab algn="l" pos="10858680"/>
                  <a:tab algn="l" pos="11582280"/>
                  <a:tab algn="l" pos="12306240"/>
                  <a:tab algn="l" pos="13030200"/>
                  <a:tab algn="l" pos="13754160"/>
                  <a:tab algn="l" pos="14478120"/>
                  <a:tab algn="l" pos="15202080"/>
                  <a:tab algn="l" pos="15925680"/>
                  <a:tab algn="l" pos="16649640"/>
                  <a:tab algn="l" pos="17373600"/>
                  <a:tab algn="l" pos="18097560"/>
                  <a:tab algn="l" pos="18821520"/>
                  <a:tab algn="l" pos="19545480"/>
                  <a:tab algn="l" pos="20269080"/>
                  <a:tab algn="l" pos="20993040"/>
                  <a:tab algn="l" pos="21717000"/>
                  <a:tab algn="l" pos="22440960"/>
                  <a:tab algn="l" pos="23164920"/>
                  <a:tab algn="l" pos="23888880"/>
                  <a:tab algn="l" pos="24612480"/>
                  <a:tab algn="l" pos="25336440"/>
                  <a:tab algn="l" pos="26060400"/>
                  <a:tab algn="l" pos="26784360"/>
                  <a:tab algn="l" pos="27508320"/>
                  <a:tab algn="l" pos="28232280"/>
                  <a:tab algn="l" pos="28955880"/>
                  <a:tab algn="l" pos="29679840"/>
                  <a:tab algn="l" pos="304038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Courier New"/>
                  <a:ea typeface="HG Mincho Light J"/>
                </a:rPr>
                <a:t>  </a:t>
              </a:r>
              <a:r>
                <a:rPr b="0" lang="en-GB" sz="900" spc="-1" strike="noStrike">
                  <a:solidFill>
                    <a:srgbClr val="000000"/>
                  </a:solidFill>
                  <a:latin typeface="Courier New"/>
                  <a:ea typeface="HG Mincho Light J"/>
                </a:rPr>
                <a:t>&lt;wsdl:operation name="setpage" parameterOrder="sid start count"&gt;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134720"/>
                  <a:tab algn="l" pos="10858680"/>
                  <a:tab algn="l" pos="11582280"/>
                  <a:tab algn="l" pos="12306240"/>
                  <a:tab algn="l" pos="13030200"/>
                  <a:tab algn="l" pos="13754160"/>
                  <a:tab algn="l" pos="14478120"/>
                  <a:tab algn="l" pos="15202080"/>
                  <a:tab algn="l" pos="15925680"/>
                  <a:tab algn="l" pos="16649640"/>
                  <a:tab algn="l" pos="17373600"/>
                  <a:tab algn="l" pos="18097560"/>
                  <a:tab algn="l" pos="18821520"/>
                  <a:tab algn="l" pos="19545480"/>
                  <a:tab algn="l" pos="20269080"/>
                  <a:tab algn="l" pos="20993040"/>
                  <a:tab algn="l" pos="21717000"/>
                  <a:tab algn="l" pos="22440960"/>
                  <a:tab algn="l" pos="23164920"/>
                  <a:tab algn="l" pos="23888880"/>
                  <a:tab algn="l" pos="24612480"/>
                  <a:tab algn="l" pos="25336440"/>
                  <a:tab algn="l" pos="26060400"/>
                  <a:tab algn="l" pos="26784360"/>
                  <a:tab algn="l" pos="27508320"/>
                  <a:tab algn="l" pos="28232280"/>
                  <a:tab algn="l" pos="28955880"/>
                  <a:tab algn="l" pos="29679840"/>
                  <a:tab algn="l" pos="304038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Courier New"/>
                  <a:ea typeface="HG Mincho Light J"/>
                </a:rPr>
                <a:t>     </a:t>
              </a:r>
              <a:r>
                <a:rPr b="0" lang="en-GB" sz="900" spc="-1" strike="noStrike">
                  <a:solidFill>
                    <a:srgbClr val="000000"/>
                  </a:solidFill>
                  <a:latin typeface="Courier New"/>
                  <a:ea typeface="HG Mincho Light J"/>
                </a:rPr>
                <a:t>&lt;wsdl:input name="setpageRequest" message="impl:setpageRequest"/&gt;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134720"/>
                  <a:tab algn="l" pos="10858680"/>
                  <a:tab algn="l" pos="11582280"/>
                  <a:tab algn="l" pos="12306240"/>
                  <a:tab algn="l" pos="13030200"/>
                  <a:tab algn="l" pos="13754160"/>
                  <a:tab algn="l" pos="14478120"/>
                  <a:tab algn="l" pos="15202080"/>
                  <a:tab algn="l" pos="15925680"/>
                  <a:tab algn="l" pos="16649640"/>
                  <a:tab algn="l" pos="17373600"/>
                  <a:tab algn="l" pos="18097560"/>
                  <a:tab algn="l" pos="18821520"/>
                  <a:tab algn="l" pos="19545480"/>
                  <a:tab algn="l" pos="20269080"/>
                  <a:tab algn="l" pos="20993040"/>
                  <a:tab algn="l" pos="21717000"/>
                  <a:tab algn="l" pos="22440960"/>
                  <a:tab algn="l" pos="23164920"/>
                  <a:tab algn="l" pos="23888880"/>
                  <a:tab algn="l" pos="24612480"/>
                  <a:tab algn="l" pos="25336440"/>
                  <a:tab algn="l" pos="26060400"/>
                  <a:tab algn="l" pos="26784360"/>
                  <a:tab algn="l" pos="27508320"/>
                  <a:tab algn="l" pos="28232280"/>
                  <a:tab algn="l" pos="28955880"/>
                  <a:tab algn="l" pos="29679840"/>
                  <a:tab algn="l" pos="304038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Courier New"/>
                  <a:ea typeface="HG Mincho Light J"/>
                </a:rPr>
                <a:t>     </a:t>
              </a:r>
              <a:r>
                <a:rPr b="0" lang="en-GB" sz="900" spc="-1" strike="noStrike">
                  <a:solidFill>
                    <a:srgbClr val="000000"/>
                  </a:solidFill>
                  <a:latin typeface="Courier New"/>
                  <a:ea typeface="HG Mincho Light J"/>
                </a:rPr>
                <a:t>&lt;wsdl:output name="setpageResponse" message="impl:setpageResponse"/&gt;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134720"/>
                  <a:tab algn="l" pos="10858680"/>
                  <a:tab algn="l" pos="11582280"/>
                  <a:tab algn="l" pos="12306240"/>
                  <a:tab algn="l" pos="13030200"/>
                  <a:tab algn="l" pos="13754160"/>
                  <a:tab algn="l" pos="14478120"/>
                  <a:tab algn="l" pos="15202080"/>
                  <a:tab algn="l" pos="15925680"/>
                  <a:tab algn="l" pos="16649640"/>
                  <a:tab algn="l" pos="17373600"/>
                  <a:tab algn="l" pos="18097560"/>
                  <a:tab algn="l" pos="18821520"/>
                  <a:tab algn="l" pos="19545480"/>
                  <a:tab algn="l" pos="20269080"/>
                  <a:tab algn="l" pos="20993040"/>
                  <a:tab algn="l" pos="21717000"/>
                  <a:tab algn="l" pos="22440960"/>
                  <a:tab algn="l" pos="23164920"/>
                  <a:tab algn="l" pos="23888880"/>
                  <a:tab algn="l" pos="24612480"/>
                  <a:tab algn="l" pos="25336440"/>
                  <a:tab algn="l" pos="26060400"/>
                  <a:tab algn="l" pos="26784360"/>
                  <a:tab algn="l" pos="27508320"/>
                  <a:tab algn="l" pos="28232280"/>
                  <a:tab algn="l" pos="28955880"/>
                  <a:tab algn="l" pos="29679840"/>
                  <a:tab algn="l" pos="304038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Courier New"/>
                  <a:ea typeface="HG Mincho Light J"/>
                </a:rPr>
                <a:t>  </a:t>
              </a:r>
              <a:r>
                <a:rPr b="0" lang="en-GB" sz="900" spc="-1" strike="noStrike">
                  <a:solidFill>
                    <a:srgbClr val="000000"/>
                  </a:solidFill>
                  <a:latin typeface="Courier New"/>
                  <a:ea typeface="HG Mincho Light J"/>
                </a:rPr>
                <a:t>&lt;/wsdl:operation&gt;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134720"/>
                  <a:tab algn="l" pos="10858680"/>
                  <a:tab algn="l" pos="11582280"/>
                  <a:tab algn="l" pos="12306240"/>
                  <a:tab algn="l" pos="13030200"/>
                  <a:tab algn="l" pos="13754160"/>
                  <a:tab algn="l" pos="14478120"/>
                  <a:tab algn="l" pos="15202080"/>
                  <a:tab algn="l" pos="15925680"/>
                  <a:tab algn="l" pos="16649640"/>
                  <a:tab algn="l" pos="17373600"/>
                  <a:tab algn="l" pos="18097560"/>
                  <a:tab algn="l" pos="18821520"/>
                  <a:tab algn="l" pos="19545480"/>
                  <a:tab algn="l" pos="20269080"/>
                  <a:tab algn="l" pos="20993040"/>
                  <a:tab algn="l" pos="21717000"/>
                  <a:tab algn="l" pos="22440960"/>
                  <a:tab algn="l" pos="23164920"/>
                  <a:tab algn="l" pos="23888880"/>
                  <a:tab algn="l" pos="24612480"/>
                  <a:tab algn="l" pos="25336440"/>
                  <a:tab algn="l" pos="26060400"/>
                  <a:tab algn="l" pos="26784360"/>
                  <a:tab algn="l" pos="27508320"/>
                  <a:tab algn="l" pos="28232280"/>
                  <a:tab algn="l" pos="28955880"/>
                  <a:tab algn="l" pos="29679840"/>
                  <a:tab algn="l" pos="304038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Courier New"/>
                  <a:ea typeface="HG Mincho Light J"/>
                </a:rPr>
                <a:t>  </a:t>
              </a:r>
              <a:r>
                <a:rPr b="0" lang="en-GB" sz="900" spc="-1" strike="noStrike">
                  <a:solidFill>
                    <a:srgbClr val="000000"/>
                  </a:solidFill>
                  <a:latin typeface="Courier New"/>
                  <a:ea typeface="HG Mincho Light J"/>
                </a:rPr>
                <a:t>&lt;wsdl:operation name="nextpage" parameterOrder="sid"&gt;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134720"/>
                  <a:tab algn="l" pos="10858680"/>
                  <a:tab algn="l" pos="11582280"/>
                  <a:tab algn="l" pos="12306240"/>
                  <a:tab algn="l" pos="13030200"/>
                  <a:tab algn="l" pos="13754160"/>
                  <a:tab algn="l" pos="14478120"/>
                  <a:tab algn="l" pos="15202080"/>
                  <a:tab algn="l" pos="15925680"/>
                  <a:tab algn="l" pos="16649640"/>
                  <a:tab algn="l" pos="17373600"/>
                  <a:tab algn="l" pos="18097560"/>
                  <a:tab algn="l" pos="18821520"/>
                  <a:tab algn="l" pos="19545480"/>
                  <a:tab algn="l" pos="20269080"/>
                  <a:tab algn="l" pos="20993040"/>
                  <a:tab algn="l" pos="21717000"/>
                  <a:tab algn="l" pos="22440960"/>
                  <a:tab algn="l" pos="23164920"/>
                  <a:tab algn="l" pos="23888880"/>
                  <a:tab algn="l" pos="24612480"/>
                  <a:tab algn="l" pos="25336440"/>
                  <a:tab algn="l" pos="26060400"/>
                  <a:tab algn="l" pos="26784360"/>
                  <a:tab algn="l" pos="27508320"/>
                  <a:tab algn="l" pos="28232280"/>
                  <a:tab algn="l" pos="28955880"/>
                  <a:tab algn="l" pos="29679840"/>
                  <a:tab algn="l" pos="304038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Courier New"/>
                  <a:ea typeface="HG Mincho Light J"/>
                </a:rPr>
                <a:t>     </a:t>
              </a:r>
              <a:r>
                <a:rPr b="0" lang="en-GB" sz="900" spc="-1" strike="noStrike">
                  <a:solidFill>
                    <a:srgbClr val="000000"/>
                  </a:solidFill>
                  <a:latin typeface="Courier New"/>
                  <a:ea typeface="HG Mincho Light J"/>
                </a:rPr>
                <a:t>&lt;wsdl:input name="nextpageRequest" message="impl:nextpageRequest"/&gt;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134720"/>
                  <a:tab algn="l" pos="10858680"/>
                  <a:tab algn="l" pos="11582280"/>
                  <a:tab algn="l" pos="12306240"/>
                  <a:tab algn="l" pos="13030200"/>
                  <a:tab algn="l" pos="13754160"/>
                  <a:tab algn="l" pos="14478120"/>
                  <a:tab algn="l" pos="15202080"/>
                  <a:tab algn="l" pos="15925680"/>
                  <a:tab algn="l" pos="16649640"/>
                  <a:tab algn="l" pos="17373600"/>
                  <a:tab algn="l" pos="18097560"/>
                  <a:tab algn="l" pos="18821520"/>
                  <a:tab algn="l" pos="19545480"/>
                  <a:tab algn="l" pos="20269080"/>
                  <a:tab algn="l" pos="20993040"/>
                  <a:tab algn="l" pos="21717000"/>
                  <a:tab algn="l" pos="22440960"/>
                  <a:tab algn="l" pos="23164920"/>
                  <a:tab algn="l" pos="23888880"/>
                  <a:tab algn="l" pos="24612480"/>
                  <a:tab algn="l" pos="25336440"/>
                  <a:tab algn="l" pos="26060400"/>
                  <a:tab algn="l" pos="26784360"/>
                  <a:tab algn="l" pos="27508320"/>
                  <a:tab algn="l" pos="28232280"/>
                  <a:tab algn="l" pos="28955880"/>
                  <a:tab algn="l" pos="29679840"/>
                  <a:tab algn="l" pos="304038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Courier New"/>
                  <a:ea typeface="HG Mincho Light J"/>
                </a:rPr>
                <a:t>     </a:t>
              </a:r>
              <a:r>
                <a:rPr b="0" lang="en-GB" sz="900" spc="-1" strike="noStrike">
                  <a:solidFill>
                    <a:srgbClr val="000000"/>
                  </a:solidFill>
                  <a:latin typeface="Courier New"/>
                  <a:ea typeface="HG Mincho Light J"/>
                </a:rPr>
                <a:t>&lt;wsdl:output name="nextpageResponse" message="impl:nextpageResponse"/&gt;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134720"/>
                  <a:tab algn="l" pos="10858680"/>
                  <a:tab algn="l" pos="11582280"/>
                  <a:tab algn="l" pos="12306240"/>
                  <a:tab algn="l" pos="13030200"/>
                  <a:tab algn="l" pos="13754160"/>
                  <a:tab algn="l" pos="14478120"/>
                  <a:tab algn="l" pos="15202080"/>
                  <a:tab algn="l" pos="15925680"/>
                  <a:tab algn="l" pos="16649640"/>
                  <a:tab algn="l" pos="17373600"/>
                  <a:tab algn="l" pos="18097560"/>
                  <a:tab algn="l" pos="18821520"/>
                  <a:tab algn="l" pos="19545480"/>
                  <a:tab algn="l" pos="20269080"/>
                  <a:tab algn="l" pos="20993040"/>
                  <a:tab algn="l" pos="21717000"/>
                  <a:tab algn="l" pos="22440960"/>
                  <a:tab algn="l" pos="23164920"/>
                  <a:tab algn="l" pos="23888880"/>
                  <a:tab algn="l" pos="24612480"/>
                  <a:tab algn="l" pos="25336440"/>
                  <a:tab algn="l" pos="26060400"/>
                  <a:tab algn="l" pos="26784360"/>
                  <a:tab algn="l" pos="27508320"/>
                  <a:tab algn="l" pos="28232280"/>
                  <a:tab algn="l" pos="28955880"/>
                  <a:tab algn="l" pos="29679840"/>
                  <a:tab algn="l" pos="304038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Courier New"/>
                  <a:ea typeface="HG Mincho Light J"/>
                </a:rPr>
                <a:t>  </a:t>
              </a:r>
              <a:r>
                <a:rPr b="0" lang="en-GB" sz="900" spc="-1" strike="noStrike">
                  <a:solidFill>
                    <a:srgbClr val="000000"/>
                  </a:solidFill>
                  <a:latin typeface="Courier New"/>
                  <a:ea typeface="HG Mincho Light J"/>
                </a:rPr>
                <a:t>&lt;/wsdl:operation&gt;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134720"/>
                  <a:tab algn="l" pos="10858680"/>
                  <a:tab algn="l" pos="11582280"/>
                  <a:tab algn="l" pos="12306240"/>
                  <a:tab algn="l" pos="13030200"/>
                  <a:tab algn="l" pos="13754160"/>
                  <a:tab algn="l" pos="14478120"/>
                  <a:tab algn="l" pos="15202080"/>
                  <a:tab algn="l" pos="15925680"/>
                  <a:tab algn="l" pos="16649640"/>
                  <a:tab algn="l" pos="17373600"/>
                  <a:tab algn="l" pos="18097560"/>
                  <a:tab algn="l" pos="18821520"/>
                  <a:tab algn="l" pos="19545480"/>
                  <a:tab algn="l" pos="20269080"/>
                  <a:tab algn="l" pos="20993040"/>
                  <a:tab algn="l" pos="21717000"/>
                  <a:tab algn="l" pos="22440960"/>
                  <a:tab algn="l" pos="23164920"/>
                  <a:tab algn="l" pos="23888880"/>
                  <a:tab algn="l" pos="24612480"/>
                  <a:tab algn="l" pos="25336440"/>
                  <a:tab algn="l" pos="26060400"/>
                  <a:tab algn="l" pos="26784360"/>
                  <a:tab algn="l" pos="27508320"/>
                  <a:tab algn="l" pos="28232280"/>
                  <a:tab algn="l" pos="28955880"/>
                  <a:tab algn="l" pos="29679840"/>
                  <a:tab algn="l" pos="304038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Courier New"/>
                  <a:ea typeface="HG Mincho Light J"/>
                </a:rPr>
                <a:t>  </a:t>
              </a:r>
              <a:r>
                <a:rPr b="0" lang="en-GB" sz="900" spc="-1" strike="noStrike">
                  <a:solidFill>
                    <a:srgbClr val="000000"/>
                  </a:solidFill>
                  <a:latin typeface="Courier New"/>
                  <a:ea typeface="HG Mincho Light J"/>
                </a:rPr>
                <a:t>&lt;wsdl:operation name="attachpage" parameterOrder="sid"&gt;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134720"/>
                  <a:tab algn="l" pos="10858680"/>
                  <a:tab algn="l" pos="11582280"/>
                  <a:tab algn="l" pos="12306240"/>
                  <a:tab algn="l" pos="13030200"/>
                  <a:tab algn="l" pos="13754160"/>
                  <a:tab algn="l" pos="14478120"/>
                  <a:tab algn="l" pos="15202080"/>
                  <a:tab algn="l" pos="15925680"/>
                  <a:tab algn="l" pos="16649640"/>
                  <a:tab algn="l" pos="17373600"/>
                  <a:tab algn="l" pos="18097560"/>
                  <a:tab algn="l" pos="18821520"/>
                  <a:tab algn="l" pos="19545480"/>
                  <a:tab algn="l" pos="20269080"/>
                  <a:tab algn="l" pos="20993040"/>
                  <a:tab algn="l" pos="21717000"/>
                  <a:tab algn="l" pos="22440960"/>
                  <a:tab algn="l" pos="23164920"/>
                  <a:tab algn="l" pos="23888880"/>
                  <a:tab algn="l" pos="24612480"/>
                  <a:tab algn="l" pos="25336440"/>
                  <a:tab algn="l" pos="26060400"/>
                  <a:tab algn="l" pos="26784360"/>
                  <a:tab algn="l" pos="27508320"/>
                  <a:tab algn="l" pos="28232280"/>
                  <a:tab algn="l" pos="28955880"/>
                  <a:tab algn="l" pos="29679840"/>
                  <a:tab algn="l" pos="304038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Courier New"/>
                  <a:ea typeface="HG Mincho Light J"/>
                </a:rPr>
                <a:t>     </a:t>
              </a:r>
              <a:r>
                <a:rPr b="0" lang="en-GB" sz="900" spc="-1" strike="noStrike">
                  <a:solidFill>
                    <a:srgbClr val="000000"/>
                  </a:solidFill>
                  <a:latin typeface="Courier New"/>
                  <a:ea typeface="HG Mincho Light J"/>
                </a:rPr>
                <a:t>&lt;wsdl:input name="attachpageRequest" message="impl:attachpageRequest"/&gt;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134720"/>
                  <a:tab algn="l" pos="10858680"/>
                  <a:tab algn="l" pos="11582280"/>
                  <a:tab algn="l" pos="12306240"/>
                  <a:tab algn="l" pos="13030200"/>
                  <a:tab algn="l" pos="13754160"/>
                  <a:tab algn="l" pos="14478120"/>
                  <a:tab algn="l" pos="15202080"/>
                  <a:tab algn="l" pos="15925680"/>
                  <a:tab algn="l" pos="16649640"/>
                  <a:tab algn="l" pos="17373600"/>
                  <a:tab algn="l" pos="18097560"/>
                  <a:tab algn="l" pos="18821520"/>
                  <a:tab algn="l" pos="19545480"/>
                  <a:tab algn="l" pos="20269080"/>
                  <a:tab algn="l" pos="20993040"/>
                  <a:tab algn="l" pos="21717000"/>
                  <a:tab algn="l" pos="22440960"/>
                  <a:tab algn="l" pos="23164920"/>
                  <a:tab algn="l" pos="23888880"/>
                  <a:tab algn="l" pos="24612480"/>
                  <a:tab algn="l" pos="25336440"/>
                  <a:tab algn="l" pos="26060400"/>
                  <a:tab algn="l" pos="26784360"/>
                  <a:tab algn="l" pos="27508320"/>
                  <a:tab algn="l" pos="28232280"/>
                  <a:tab algn="l" pos="28955880"/>
                  <a:tab algn="l" pos="29679840"/>
                  <a:tab algn="l" pos="304038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Courier New"/>
                  <a:ea typeface="HG Mincho Light J"/>
                </a:rPr>
                <a:t>     </a:t>
              </a:r>
              <a:r>
                <a:rPr b="0" lang="en-GB" sz="900" spc="-1" strike="noStrike">
                  <a:solidFill>
                    <a:srgbClr val="000000"/>
                  </a:solidFill>
                  <a:latin typeface="Courier New"/>
                  <a:ea typeface="HG Mincho Light J"/>
                </a:rPr>
                <a:t>&lt;wsdl:output name="attachpageResponse" message="impl:attachpageResponse"/&gt;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134720"/>
                  <a:tab algn="l" pos="10858680"/>
                  <a:tab algn="l" pos="11582280"/>
                  <a:tab algn="l" pos="12306240"/>
                  <a:tab algn="l" pos="13030200"/>
                  <a:tab algn="l" pos="13754160"/>
                  <a:tab algn="l" pos="14478120"/>
                  <a:tab algn="l" pos="15202080"/>
                  <a:tab algn="l" pos="15925680"/>
                  <a:tab algn="l" pos="16649640"/>
                  <a:tab algn="l" pos="17373600"/>
                  <a:tab algn="l" pos="18097560"/>
                  <a:tab algn="l" pos="18821520"/>
                  <a:tab algn="l" pos="19545480"/>
                  <a:tab algn="l" pos="20269080"/>
                  <a:tab algn="l" pos="20993040"/>
                  <a:tab algn="l" pos="21717000"/>
                  <a:tab algn="l" pos="22440960"/>
                  <a:tab algn="l" pos="23164920"/>
                  <a:tab algn="l" pos="23888880"/>
                  <a:tab algn="l" pos="24612480"/>
                  <a:tab algn="l" pos="25336440"/>
                  <a:tab algn="l" pos="26060400"/>
                  <a:tab algn="l" pos="26784360"/>
                  <a:tab algn="l" pos="27508320"/>
                  <a:tab algn="l" pos="28232280"/>
                  <a:tab algn="l" pos="28955880"/>
                  <a:tab algn="l" pos="29679840"/>
                  <a:tab algn="l" pos="304038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Courier New"/>
                  <a:ea typeface="HG Mincho Light J"/>
                </a:rPr>
                <a:t>  </a:t>
              </a:r>
              <a:r>
                <a:rPr b="0" lang="en-GB" sz="900" spc="-1" strike="noStrike">
                  <a:solidFill>
                    <a:srgbClr val="000000"/>
                  </a:solidFill>
                  <a:latin typeface="Courier New"/>
                  <a:ea typeface="HG Mincho Light J"/>
                </a:rPr>
                <a:t>&lt;/wsdl:operation&gt;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134720"/>
                  <a:tab algn="l" pos="10858680"/>
                  <a:tab algn="l" pos="11582280"/>
                  <a:tab algn="l" pos="12306240"/>
                  <a:tab algn="l" pos="13030200"/>
                  <a:tab algn="l" pos="13754160"/>
                  <a:tab algn="l" pos="14478120"/>
                  <a:tab algn="l" pos="15202080"/>
                  <a:tab algn="l" pos="15925680"/>
                  <a:tab algn="l" pos="16649640"/>
                  <a:tab algn="l" pos="17373600"/>
                  <a:tab algn="l" pos="18097560"/>
                  <a:tab algn="l" pos="18821520"/>
                  <a:tab algn="l" pos="19545480"/>
                  <a:tab algn="l" pos="20269080"/>
                  <a:tab algn="l" pos="20993040"/>
                  <a:tab algn="l" pos="21717000"/>
                  <a:tab algn="l" pos="22440960"/>
                  <a:tab algn="l" pos="23164920"/>
                  <a:tab algn="l" pos="23888880"/>
                  <a:tab algn="l" pos="24612480"/>
                  <a:tab algn="l" pos="25336440"/>
                  <a:tab algn="l" pos="26060400"/>
                  <a:tab algn="l" pos="26784360"/>
                  <a:tab algn="l" pos="27508320"/>
                  <a:tab algn="l" pos="28232280"/>
                  <a:tab algn="l" pos="28955880"/>
                  <a:tab algn="l" pos="29679840"/>
                  <a:tab algn="l" pos="304038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Courier New"/>
                  <a:ea typeface="HG Mincho Light J"/>
                </a:rPr>
                <a:t>  </a:t>
              </a:r>
              <a:r>
                <a:rPr b="0" lang="en-GB" sz="900" spc="-1" strike="noStrike">
                  <a:solidFill>
                    <a:srgbClr val="000000"/>
                  </a:solidFill>
                  <a:latin typeface="Courier New"/>
                  <a:ea typeface="HG Mincho Light J"/>
                </a:rPr>
                <a:t>&lt;wsdl:operation name="setformat" parameterOrder="sid format"&gt;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134720"/>
                  <a:tab algn="l" pos="10858680"/>
                  <a:tab algn="l" pos="11582280"/>
                  <a:tab algn="l" pos="12306240"/>
                  <a:tab algn="l" pos="13030200"/>
                  <a:tab algn="l" pos="13754160"/>
                  <a:tab algn="l" pos="14478120"/>
                  <a:tab algn="l" pos="15202080"/>
                  <a:tab algn="l" pos="15925680"/>
                  <a:tab algn="l" pos="16649640"/>
                  <a:tab algn="l" pos="17373600"/>
                  <a:tab algn="l" pos="18097560"/>
                  <a:tab algn="l" pos="18821520"/>
                  <a:tab algn="l" pos="19545480"/>
                  <a:tab algn="l" pos="20269080"/>
                  <a:tab algn="l" pos="20993040"/>
                  <a:tab algn="l" pos="21717000"/>
                  <a:tab algn="l" pos="22440960"/>
                  <a:tab algn="l" pos="23164920"/>
                  <a:tab algn="l" pos="23888880"/>
                  <a:tab algn="l" pos="24612480"/>
                  <a:tab algn="l" pos="25336440"/>
                  <a:tab algn="l" pos="26060400"/>
                  <a:tab algn="l" pos="26784360"/>
                  <a:tab algn="l" pos="27508320"/>
                  <a:tab algn="l" pos="28232280"/>
                  <a:tab algn="l" pos="28955880"/>
                  <a:tab algn="l" pos="29679840"/>
                  <a:tab algn="l" pos="304038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Courier New"/>
                  <a:ea typeface="HG Mincho Light J"/>
                </a:rPr>
                <a:t>     </a:t>
              </a:r>
              <a:r>
                <a:rPr b="0" lang="en-GB" sz="900" spc="-1" strike="noStrike">
                  <a:solidFill>
                    <a:srgbClr val="000000"/>
                  </a:solidFill>
                  <a:latin typeface="Courier New"/>
                  <a:ea typeface="HG Mincho Light J"/>
                </a:rPr>
                <a:t>&lt;wsdl:input name="setformatRequest" message="impl:setformatRequest"/&gt;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134720"/>
                  <a:tab algn="l" pos="10858680"/>
                  <a:tab algn="l" pos="11582280"/>
                  <a:tab algn="l" pos="12306240"/>
                  <a:tab algn="l" pos="13030200"/>
                  <a:tab algn="l" pos="13754160"/>
                  <a:tab algn="l" pos="14478120"/>
                  <a:tab algn="l" pos="15202080"/>
                  <a:tab algn="l" pos="15925680"/>
                  <a:tab algn="l" pos="16649640"/>
                  <a:tab algn="l" pos="17373600"/>
                  <a:tab algn="l" pos="18097560"/>
                  <a:tab algn="l" pos="18821520"/>
                  <a:tab algn="l" pos="19545480"/>
                  <a:tab algn="l" pos="20269080"/>
                  <a:tab algn="l" pos="20993040"/>
                  <a:tab algn="l" pos="21717000"/>
                  <a:tab algn="l" pos="22440960"/>
                  <a:tab algn="l" pos="23164920"/>
                  <a:tab algn="l" pos="23888880"/>
                  <a:tab algn="l" pos="24612480"/>
                  <a:tab algn="l" pos="25336440"/>
                  <a:tab algn="l" pos="26060400"/>
                  <a:tab algn="l" pos="26784360"/>
                  <a:tab algn="l" pos="27508320"/>
                  <a:tab algn="l" pos="28232280"/>
                  <a:tab algn="l" pos="28955880"/>
                  <a:tab algn="l" pos="29679840"/>
                  <a:tab algn="l" pos="304038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Courier New"/>
                  <a:ea typeface="HG Mincho Light J"/>
                </a:rPr>
                <a:t>     </a:t>
              </a:r>
              <a:r>
                <a:rPr b="0" lang="en-GB" sz="900" spc="-1" strike="noStrike">
                  <a:solidFill>
                    <a:srgbClr val="000000"/>
                  </a:solidFill>
                  <a:latin typeface="Courier New"/>
                  <a:ea typeface="HG Mincho Light J"/>
                </a:rPr>
                <a:t>&lt;wsdl:output name="setformatResponse" message="impl:setformatResponse"/&gt;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134720"/>
                  <a:tab algn="l" pos="10858680"/>
                  <a:tab algn="l" pos="11582280"/>
                  <a:tab algn="l" pos="12306240"/>
                  <a:tab algn="l" pos="13030200"/>
                  <a:tab algn="l" pos="13754160"/>
                  <a:tab algn="l" pos="14478120"/>
                  <a:tab algn="l" pos="15202080"/>
                  <a:tab algn="l" pos="15925680"/>
                  <a:tab algn="l" pos="16649640"/>
                  <a:tab algn="l" pos="17373600"/>
                  <a:tab algn="l" pos="18097560"/>
                  <a:tab algn="l" pos="18821520"/>
                  <a:tab algn="l" pos="19545480"/>
                  <a:tab algn="l" pos="20269080"/>
                  <a:tab algn="l" pos="20993040"/>
                  <a:tab algn="l" pos="21717000"/>
                  <a:tab algn="l" pos="22440960"/>
                  <a:tab algn="l" pos="23164920"/>
                  <a:tab algn="l" pos="23888880"/>
                  <a:tab algn="l" pos="24612480"/>
                  <a:tab algn="l" pos="25336440"/>
                  <a:tab algn="l" pos="26060400"/>
                  <a:tab algn="l" pos="26784360"/>
                  <a:tab algn="l" pos="27508320"/>
                  <a:tab algn="l" pos="28232280"/>
                  <a:tab algn="l" pos="28955880"/>
                  <a:tab algn="l" pos="29679840"/>
                  <a:tab algn="l" pos="304038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Courier New"/>
                  <a:ea typeface="HG Mincho Light J"/>
                </a:rPr>
                <a:t>  </a:t>
              </a:r>
              <a:r>
                <a:rPr b="0" lang="en-GB" sz="900" spc="-1" strike="noStrike">
                  <a:solidFill>
                    <a:srgbClr val="000000"/>
                  </a:solidFill>
                  <a:latin typeface="Courier New"/>
                  <a:ea typeface="HG Mincho Light J"/>
                </a:rPr>
                <a:t>&lt;/wsdl:operation&gt;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134720"/>
                  <a:tab algn="l" pos="10858680"/>
                  <a:tab algn="l" pos="11582280"/>
                  <a:tab algn="l" pos="12306240"/>
                  <a:tab algn="l" pos="13030200"/>
                  <a:tab algn="l" pos="13754160"/>
                  <a:tab algn="l" pos="14478120"/>
                  <a:tab algn="l" pos="15202080"/>
                  <a:tab algn="l" pos="15925680"/>
                  <a:tab algn="l" pos="16649640"/>
                  <a:tab algn="l" pos="17373600"/>
                  <a:tab algn="l" pos="18097560"/>
                  <a:tab algn="l" pos="18821520"/>
                  <a:tab algn="l" pos="19545480"/>
                  <a:tab algn="l" pos="20269080"/>
                  <a:tab algn="l" pos="20993040"/>
                  <a:tab algn="l" pos="21717000"/>
                  <a:tab algn="l" pos="22440960"/>
                  <a:tab algn="l" pos="23164920"/>
                  <a:tab algn="l" pos="23888880"/>
                  <a:tab algn="l" pos="24612480"/>
                  <a:tab algn="l" pos="25336440"/>
                  <a:tab algn="l" pos="26060400"/>
                  <a:tab algn="l" pos="26784360"/>
                  <a:tab algn="l" pos="27508320"/>
                  <a:tab algn="l" pos="28232280"/>
                  <a:tab algn="l" pos="28955880"/>
                  <a:tab algn="l" pos="29679840"/>
                  <a:tab algn="l" pos="304038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Courier New"/>
                  <a:ea typeface="HG Mincho Light J"/>
                </a:rPr>
                <a:t>  </a:t>
              </a:r>
              <a:r>
                <a:rPr b="0" lang="en-GB" sz="900" spc="-1" strike="noStrike">
                  <a:solidFill>
                    <a:srgbClr val="000000"/>
                  </a:solidFill>
                  <a:latin typeface="Courier New"/>
                  <a:ea typeface="HG Mincho Light J"/>
                </a:rPr>
                <a:t>&lt;wsdl:operation name="count" parameterOrder="sid"&gt;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134720"/>
                  <a:tab algn="l" pos="10858680"/>
                  <a:tab algn="l" pos="11582280"/>
                  <a:tab algn="l" pos="12306240"/>
                  <a:tab algn="l" pos="13030200"/>
                  <a:tab algn="l" pos="13754160"/>
                  <a:tab algn="l" pos="14478120"/>
                  <a:tab algn="l" pos="15202080"/>
                  <a:tab algn="l" pos="15925680"/>
                  <a:tab algn="l" pos="16649640"/>
                  <a:tab algn="l" pos="17373600"/>
                  <a:tab algn="l" pos="18097560"/>
                  <a:tab algn="l" pos="18821520"/>
                  <a:tab algn="l" pos="19545480"/>
                  <a:tab algn="l" pos="20269080"/>
                  <a:tab algn="l" pos="20993040"/>
                  <a:tab algn="l" pos="21717000"/>
                  <a:tab algn="l" pos="22440960"/>
                  <a:tab algn="l" pos="23164920"/>
                  <a:tab algn="l" pos="23888880"/>
                  <a:tab algn="l" pos="24612480"/>
                  <a:tab algn="l" pos="25336440"/>
                  <a:tab algn="l" pos="26060400"/>
                  <a:tab algn="l" pos="26784360"/>
                  <a:tab algn="l" pos="27508320"/>
                  <a:tab algn="l" pos="28232280"/>
                  <a:tab algn="l" pos="28955880"/>
                  <a:tab algn="l" pos="29679840"/>
                  <a:tab algn="l" pos="304038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Courier New"/>
                  <a:ea typeface="HG Mincho Light J"/>
                </a:rPr>
                <a:t>     </a:t>
              </a:r>
              <a:r>
                <a:rPr b="0" lang="en-GB" sz="900" spc="-1" strike="noStrike">
                  <a:solidFill>
                    <a:srgbClr val="000000"/>
                  </a:solidFill>
                  <a:latin typeface="Courier New"/>
                  <a:ea typeface="HG Mincho Light J"/>
                </a:rPr>
                <a:t>&lt;wsdl:input name="countRequest" message="impl:countRequest"/&gt;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134720"/>
                  <a:tab algn="l" pos="10858680"/>
                  <a:tab algn="l" pos="11582280"/>
                  <a:tab algn="l" pos="12306240"/>
                  <a:tab algn="l" pos="13030200"/>
                  <a:tab algn="l" pos="13754160"/>
                  <a:tab algn="l" pos="14478120"/>
                  <a:tab algn="l" pos="15202080"/>
                  <a:tab algn="l" pos="15925680"/>
                  <a:tab algn="l" pos="16649640"/>
                  <a:tab algn="l" pos="17373600"/>
                  <a:tab algn="l" pos="18097560"/>
                  <a:tab algn="l" pos="18821520"/>
                  <a:tab algn="l" pos="19545480"/>
                  <a:tab algn="l" pos="20269080"/>
                  <a:tab algn="l" pos="20993040"/>
                  <a:tab algn="l" pos="21717000"/>
                  <a:tab algn="l" pos="22440960"/>
                  <a:tab algn="l" pos="23164920"/>
                  <a:tab algn="l" pos="23888880"/>
                  <a:tab algn="l" pos="24612480"/>
                  <a:tab algn="l" pos="25336440"/>
                  <a:tab algn="l" pos="26060400"/>
                  <a:tab algn="l" pos="26784360"/>
                  <a:tab algn="l" pos="27508320"/>
                  <a:tab algn="l" pos="28232280"/>
                  <a:tab algn="l" pos="28955880"/>
                  <a:tab algn="l" pos="29679840"/>
                  <a:tab algn="l" pos="304038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Courier New"/>
                  <a:ea typeface="HG Mincho Light J"/>
                </a:rPr>
                <a:t>     </a:t>
              </a:r>
              <a:r>
                <a:rPr b="0" lang="en-GB" sz="900" spc="-1" strike="noStrike">
                  <a:solidFill>
                    <a:srgbClr val="000000"/>
                  </a:solidFill>
                  <a:latin typeface="Courier New"/>
                  <a:ea typeface="HG Mincho Light J"/>
                </a:rPr>
                <a:t>&lt;wsdl:output name="countResponse" message="impl:countResponse"/&gt;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134720"/>
                  <a:tab algn="l" pos="10858680"/>
                  <a:tab algn="l" pos="11582280"/>
                  <a:tab algn="l" pos="12306240"/>
                  <a:tab algn="l" pos="13030200"/>
                  <a:tab algn="l" pos="13754160"/>
                  <a:tab algn="l" pos="14478120"/>
                  <a:tab algn="l" pos="15202080"/>
                  <a:tab algn="l" pos="15925680"/>
                  <a:tab algn="l" pos="16649640"/>
                  <a:tab algn="l" pos="17373600"/>
                  <a:tab algn="l" pos="18097560"/>
                  <a:tab algn="l" pos="18821520"/>
                  <a:tab algn="l" pos="19545480"/>
                  <a:tab algn="l" pos="20269080"/>
                  <a:tab algn="l" pos="20993040"/>
                  <a:tab algn="l" pos="21717000"/>
                  <a:tab algn="l" pos="22440960"/>
                  <a:tab algn="l" pos="23164920"/>
                  <a:tab algn="l" pos="23888880"/>
                  <a:tab algn="l" pos="24612480"/>
                  <a:tab algn="l" pos="25336440"/>
                  <a:tab algn="l" pos="26060400"/>
                  <a:tab algn="l" pos="26784360"/>
                  <a:tab algn="l" pos="27508320"/>
                  <a:tab algn="l" pos="28232280"/>
                  <a:tab algn="l" pos="28955880"/>
                  <a:tab algn="l" pos="29679840"/>
                  <a:tab algn="l" pos="304038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Courier New"/>
                  <a:ea typeface="HG Mincho Light J"/>
                </a:rPr>
                <a:t>  </a:t>
              </a:r>
              <a:r>
                <a:rPr b="0" lang="en-GB" sz="900" spc="-1" strike="noStrike">
                  <a:solidFill>
                    <a:srgbClr val="000000"/>
                  </a:solidFill>
                  <a:latin typeface="Courier New"/>
                  <a:ea typeface="HG Mincho Light J"/>
                </a:rPr>
                <a:t>&lt;/wsdl:operation&gt;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134720"/>
                  <a:tab algn="l" pos="10858680"/>
                  <a:tab algn="l" pos="11582280"/>
                  <a:tab algn="l" pos="12306240"/>
                  <a:tab algn="l" pos="13030200"/>
                  <a:tab algn="l" pos="13754160"/>
                  <a:tab algn="l" pos="14478120"/>
                  <a:tab algn="l" pos="15202080"/>
                  <a:tab algn="l" pos="15925680"/>
                  <a:tab algn="l" pos="16649640"/>
                  <a:tab algn="l" pos="17373600"/>
                  <a:tab algn="l" pos="18097560"/>
                  <a:tab algn="l" pos="18821520"/>
                  <a:tab algn="l" pos="19545480"/>
                  <a:tab algn="l" pos="20269080"/>
                  <a:tab algn="l" pos="20993040"/>
                  <a:tab algn="l" pos="21717000"/>
                  <a:tab algn="l" pos="22440960"/>
                  <a:tab algn="l" pos="23164920"/>
                  <a:tab algn="l" pos="23888880"/>
                  <a:tab algn="l" pos="24612480"/>
                  <a:tab algn="l" pos="25336440"/>
                  <a:tab algn="l" pos="26060400"/>
                  <a:tab algn="l" pos="26784360"/>
                  <a:tab algn="l" pos="27508320"/>
                  <a:tab algn="l" pos="28232280"/>
                  <a:tab algn="l" pos="28955880"/>
                  <a:tab algn="l" pos="29679840"/>
                  <a:tab algn="l" pos="304038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Courier New"/>
                  <a:ea typeface="HG Mincho Light J"/>
                </a:rPr>
                <a:t>  </a:t>
              </a:r>
              <a:r>
                <a:rPr b="0" lang="en-GB" sz="900" spc="-1" strike="noStrike">
                  <a:solidFill>
                    <a:srgbClr val="000000"/>
                  </a:solidFill>
                  <a:latin typeface="Courier New"/>
                  <a:ea typeface="HG Mincho Light J"/>
                </a:rPr>
                <a:t>&lt;wsdl:operation name="next" parameterOrder="sid"&gt;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134720"/>
                  <a:tab algn="l" pos="10858680"/>
                  <a:tab algn="l" pos="11582280"/>
                  <a:tab algn="l" pos="12306240"/>
                  <a:tab algn="l" pos="13030200"/>
                  <a:tab algn="l" pos="13754160"/>
                  <a:tab algn="l" pos="14478120"/>
                  <a:tab algn="l" pos="15202080"/>
                  <a:tab algn="l" pos="15925680"/>
                  <a:tab algn="l" pos="16649640"/>
                  <a:tab algn="l" pos="17373600"/>
                  <a:tab algn="l" pos="18097560"/>
                  <a:tab algn="l" pos="18821520"/>
                  <a:tab algn="l" pos="19545480"/>
                  <a:tab algn="l" pos="20269080"/>
                  <a:tab algn="l" pos="20993040"/>
                  <a:tab algn="l" pos="21717000"/>
                  <a:tab algn="l" pos="22440960"/>
                  <a:tab algn="l" pos="23164920"/>
                  <a:tab algn="l" pos="23888880"/>
                  <a:tab algn="l" pos="24612480"/>
                  <a:tab algn="l" pos="25336440"/>
                  <a:tab algn="l" pos="26060400"/>
                  <a:tab algn="l" pos="26784360"/>
                  <a:tab algn="l" pos="27508320"/>
                  <a:tab algn="l" pos="28232280"/>
                  <a:tab algn="l" pos="28955880"/>
                  <a:tab algn="l" pos="29679840"/>
                  <a:tab algn="l" pos="304038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Courier New"/>
                  <a:ea typeface="HG Mincho Light J"/>
                </a:rPr>
                <a:t>     </a:t>
              </a:r>
              <a:r>
                <a:rPr b="0" lang="en-GB" sz="900" spc="-1" strike="noStrike">
                  <a:solidFill>
                    <a:srgbClr val="000000"/>
                  </a:solidFill>
                  <a:latin typeface="Courier New"/>
                  <a:ea typeface="HG Mincho Light J"/>
                </a:rPr>
                <a:t>&lt;wsdl:input name="nextRequest" message="impl:nextRequest"/&gt;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134720"/>
                  <a:tab algn="l" pos="10858680"/>
                  <a:tab algn="l" pos="11582280"/>
                  <a:tab algn="l" pos="12306240"/>
                  <a:tab algn="l" pos="13030200"/>
                  <a:tab algn="l" pos="13754160"/>
                  <a:tab algn="l" pos="14478120"/>
                  <a:tab algn="l" pos="15202080"/>
                  <a:tab algn="l" pos="15925680"/>
                  <a:tab algn="l" pos="16649640"/>
                  <a:tab algn="l" pos="17373600"/>
                  <a:tab algn="l" pos="18097560"/>
                  <a:tab algn="l" pos="18821520"/>
                  <a:tab algn="l" pos="19545480"/>
                  <a:tab algn="l" pos="20269080"/>
                  <a:tab algn="l" pos="20993040"/>
                  <a:tab algn="l" pos="21717000"/>
                  <a:tab algn="l" pos="22440960"/>
                  <a:tab algn="l" pos="23164920"/>
                  <a:tab algn="l" pos="23888880"/>
                  <a:tab algn="l" pos="24612480"/>
                  <a:tab algn="l" pos="25336440"/>
                  <a:tab algn="l" pos="26060400"/>
                  <a:tab algn="l" pos="26784360"/>
                  <a:tab algn="l" pos="27508320"/>
                  <a:tab algn="l" pos="28232280"/>
                  <a:tab algn="l" pos="28955880"/>
                  <a:tab algn="l" pos="29679840"/>
                  <a:tab algn="l" pos="304038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Courier New"/>
                  <a:ea typeface="HG Mincho Light J"/>
                </a:rPr>
                <a:t>     </a:t>
              </a:r>
              <a:r>
                <a:rPr b="0" lang="en-GB" sz="900" spc="-1" strike="noStrike">
                  <a:solidFill>
                    <a:srgbClr val="000000"/>
                  </a:solidFill>
                  <a:latin typeface="Courier New"/>
                  <a:ea typeface="HG Mincho Light J"/>
                </a:rPr>
                <a:t>&lt;wsdl:output name="nextResponse" message="impl:nextResponse"/&gt;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134720"/>
                  <a:tab algn="l" pos="10858680"/>
                  <a:tab algn="l" pos="11582280"/>
                  <a:tab algn="l" pos="12306240"/>
                  <a:tab algn="l" pos="13030200"/>
                  <a:tab algn="l" pos="13754160"/>
                  <a:tab algn="l" pos="14478120"/>
                  <a:tab algn="l" pos="15202080"/>
                  <a:tab algn="l" pos="15925680"/>
                  <a:tab algn="l" pos="16649640"/>
                  <a:tab algn="l" pos="17373600"/>
                  <a:tab algn="l" pos="18097560"/>
                  <a:tab algn="l" pos="18821520"/>
                  <a:tab algn="l" pos="19545480"/>
                  <a:tab algn="l" pos="20269080"/>
                  <a:tab algn="l" pos="20993040"/>
                  <a:tab algn="l" pos="21717000"/>
                  <a:tab algn="l" pos="22440960"/>
                  <a:tab algn="l" pos="23164920"/>
                  <a:tab algn="l" pos="23888880"/>
                  <a:tab algn="l" pos="24612480"/>
                  <a:tab algn="l" pos="25336440"/>
                  <a:tab algn="l" pos="26060400"/>
                  <a:tab algn="l" pos="26784360"/>
                  <a:tab algn="l" pos="27508320"/>
                  <a:tab algn="l" pos="28232280"/>
                  <a:tab algn="l" pos="28955880"/>
                  <a:tab algn="l" pos="29679840"/>
                  <a:tab algn="l" pos="304038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Courier New"/>
                  <a:ea typeface="HG Mincho Light J"/>
                </a:rPr>
                <a:t>  </a:t>
              </a:r>
              <a:r>
                <a:rPr b="0" lang="en-GB" sz="900" spc="-1" strike="noStrike">
                  <a:solidFill>
                    <a:srgbClr val="000000"/>
                  </a:solidFill>
                  <a:latin typeface="Courier New"/>
                  <a:ea typeface="HG Mincho Light J"/>
                </a:rPr>
                <a:t>&lt;/wsdl:operation&gt;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134720"/>
                  <a:tab algn="l" pos="10858680"/>
                  <a:tab algn="l" pos="11582280"/>
                  <a:tab algn="l" pos="12306240"/>
                  <a:tab algn="l" pos="13030200"/>
                  <a:tab algn="l" pos="13754160"/>
                  <a:tab algn="l" pos="14478120"/>
                  <a:tab algn="l" pos="15202080"/>
                  <a:tab algn="l" pos="15925680"/>
                  <a:tab algn="l" pos="16649640"/>
                  <a:tab algn="l" pos="17373600"/>
                  <a:tab algn="l" pos="18097560"/>
                  <a:tab algn="l" pos="18821520"/>
                  <a:tab algn="l" pos="19545480"/>
                  <a:tab algn="l" pos="20269080"/>
                  <a:tab algn="l" pos="20993040"/>
                  <a:tab algn="l" pos="21717000"/>
                  <a:tab algn="l" pos="22440960"/>
                  <a:tab algn="l" pos="23164920"/>
                  <a:tab algn="l" pos="23888880"/>
                  <a:tab algn="l" pos="24612480"/>
                  <a:tab algn="l" pos="25336440"/>
                  <a:tab algn="l" pos="26060400"/>
                  <a:tab algn="l" pos="26784360"/>
                  <a:tab algn="l" pos="27508320"/>
                  <a:tab algn="l" pos="28232280"/>
                  <a:tab algn="l" pos="28955880"/>
                  <a:tab algn="l" pos="29679840"/>
                  <a:tab algn="l" pos="304038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Courier New"/>
                  <a:ea typeface="HG Mincho Light J"/>
                </a:rPr>
                <a:t>  </a:t>
              </a:r>
              <a:r>
                <a:rPr b="0" lang="en-GB" sz="900" spc="-1" strike="noStrike">
                  <a:solidFill>
                    <a:srgbClr val="000000"/>
                  </a:solidFill>
                  <a:latin typeface="Courier New"/>
                  <a:ea typeface="HG Mincho Light J"/>
                </a:rPr>
                <a:t>&lt;wsdl:operation name="search" parameterOrder="q"&gt;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134720"/>
                  <a:tab algn="l" pos="10858680"/>
                  <a:tab algn="l" pos="11582280"/>
                  <a:tab algn="l" pos="12306240"/>
                  <a:tab algn="l" pos="13030200"/>
                  <a:tab algn="l" pos="13754160"/>
                  <a:tab algn="l" pos="14478120"/>
                  <a:tab algn="l" pos="15202080"/>
                  <a:tab algn="l" pos="15925680"/>
                  <a:tab algn="l" pos="16649640"/>
                  <a:tab algn="l" pos="17373600"/>
                  <a:tab algn="l" pos="18097560"/>
                  <a:tab algn="l" pos="18821520"/>
                  <a:tab algn="l" pos="19545480"/>
                  <a:tab algn="l" pos="20269080"/>
                  <a:tab algn="l" pos="20993040"/>
                  <a:tab algn="l" pos="21717000"/>
                  <a:tab algn="l" pos="22440960"/>
                  <a:tab algn="l" pos="23164920"/>
                  <a:tab algn="l" pos="23888880"/>
                  <a:tab algn="l" pos="24612480"/>
                  <a:tab algn="l" pos="25336440"/>
                  <a:tab algn="l" pos="26060400"/>
                  <a:tab algn="l" pos="26784360"/>
                  <a:tab algn="l" pos="27508320"/>
                  <a:tab algn="l" pos="28232280"/>
                  <a:tab algn="l" pos="28955880"/>
                  <a:tab algn="l" pos="29679840"/>
                  <a:tab algn="l" pos="304038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Courier New"/>
                  <a:ea typeface="HG Mincho Light J"/>
                </a:rPr>
                <a:t>     </a:t>
              </a:r>
              <a:r>
                <a:rPr b="0" lang="en-GB" sz="900" spc="-1" strike="noStrike">
                  <a:solidFill>
                    <a:srgbClr val="000000"/>
                  </a:solidFill>
                  <a:latin typeface="Courier New"/>
                  <a:ea typeface="HG Mincho Light J"/>
                </a:rPr>
                <a:t>&lt;wsdl:input name="searchRequest" message="impl:searchRequest"/&gt;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134720"/>
                  <a:tab algn="l" pos="10858680"/>
                  <a:tab algn="l" pos="11582280"/>
                  <a:tab algn="l" pos="12306240"/>
                  <a:tab algn="l" pos="13030200"/>
                  <a:tab algn="l" pos="13754160"/>
                  <a:tab algn="l" pos="14478120"/>
                  <a:tab algn="l" pos="15202080"/>
                  <a:tab algn="l" pos="15925680"/>
                  <a:tab algn="l" pos="16649640"/>
                  <a:tab algn="l" pos="17373600"/>
                  <a:tab algn="l" pos="18097560"/>
                  <a:tab algn="l" pos="18821520"/>
                  <a:tab algn="l" pos="19545480"/>
                  <a:tab algn="l" pos="20269080"/>
                  <a:tab algn="l" pos="20993040"/>
                  <a:tab algn="l" pos="21717000"/>
                  <a:tab algn="l" pos="22440960"/>
                  <a:tab algn="l" pos="23164920"/>
                  <a:tab algn="l" pos="23888880"/>
                  <a:tab algn="l" pos="24612480"/>
                  <a:tab algn="l" pos="25336440"/>
                  <a:tab algn="l" pos="26060400"/>
                  <a:tab algn="l" pos="26784360"/>
                  <a:tab algn="l" pos="27508320"/>
                  <a:tab algn="l" pos="28232280"/>
                  <a:tab algn="l" pos="28955880"/>
                  <a:tab algn="l" pos="29679840"/>
                  <a:tab algn="l" pos="304038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Courier New"/>
                  <a:ea typeface="HG Mincho Light J"/>
                </a:rPr>
                <a:t>     </a:t>
              </a:r>
              <a:r>
                <a:rPr b="0" lang="en-GB" sz="900" spc="-1" strike="noStrike">
                  <a:solidFill>
                    <a:srgbClr val="000000"/>
                  </a:solidFill>
                  <a:latin typeface="Courier New"/>
                  <a:ea typeface="HG Mincho Light J"/>
                </a:rPr>
                <a:t>&lt;wsdl:output name="searchResponse" message="impl:searchResponse"/&gt;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134720"/>
                  <a:tab algn="l" pos="10858680"/>
                  <a:tab algn="l" pos="11582280"/>
                  <a:tab algn="l" pos="12306240"/>
                  <a:tab algn="l" pos="13030200"/>
                  <a:tab algn="l" pos="13754160"/>
                  <a:tab algn="l" pos="14478120"/>
                  <a:tab algn="l" pos="15202080"/>
                  <a:tab algn="l" pos="15925680"/>
                  <a:tab algn="l" pos="16649640"/>
                  <a:tab algn="l" pos="17373600"/>
                  <a:tab algn="l" pos="18097560"/>
                  <a:tab algn="l" pos="18821520"/>
                  <a:tab algn="l" pos="19545480"/>
                  <a:tab algn="l" pos="20269080"/>
                  <a:tab algn="l" pos="20993040"/>
                  <a:tab algn="l" pos="21717000"/>
                  <a:tab algn="l" pos="22440960"/>
                  <a:tab algn="l" pos="23164920"/>
                  <a:tab algn="l" pos="23888880"/>
                  <a:tab algn="l" pos="24612480"/>
                  <a:tab algn="l" pos="25336440"/>
                  <a:tab algn="l" pos="26060400"/>
                  <a:tab algn="l" pos="26784360"/>
                  <a:tab algn="l" pos="27508320"/>
                  <a:tab algn="l" pos="28232280"/>
                  <a:tab algn="l" pos="28955880"/>
                  <a:tab algn="l" pos="29679840"/>
                  <a:tab algn="l" pos="304038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Courier New"/>
                  <a:ea typeface="HG Mincho Light J"/>
                </a:rPr>
                <a:t>  </a:t>
              </a:r>
              <a:r>
                <a:rPr b="0" lang="en-GB" sz="900" spc="-1" strike="noStrike">
                  <a:solidFill>
                    <a:srgbClr val="000000"/>
                  </a:solidFill>
                  <a:latin typeface="Courier New"/>
                  <a:ea typeface="HG Mincho Light J"/>
                </a:rPr>
                <a:t>&lt;/wsdl:operation&gt;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134720"/>
                  <a:tab algn="l" pos="10858680"/>
                  <a:tab algn="l" pos="11582280"/>
                  <a:tab algn="l" pos="12306240"/>
                  <a:tab algn="l" pos="13030200"/>
                  <a:tab algn="l" pos="13754160"/>
                  <a:tab algn="l" pos="14478120"/>
                  <a:tab algn="l" pos="15202080"/>
                  <a:tab algn="l" pos="15925680"/>
                  <a:tab algn="l" pos="16649640"/>
                  <a:tab algn="l" pos="17373600"/>
                  <a:tab algn="l" pos="18097560"/>
                  <a:tab algn="l" pos="18821520"/>
                  <a:tab algn="l" pos="19545480"/>
                  <a:tab algn="l" pos="20269080"/>
                  <a:tab algn="l" pos="20993040"/>
                  <a:tab algn="l" pos="21717000"/>
                  <a:tab algn="l" pos="22440960"/>
                  <a:tab algn="l" pos="23164920"/>
                  <a:tab algn="l" pos="23888880"/>
                  <a:tab algn="l" pos="24612480"/>
                  <a:tab algn="l" pos="25336440"/>
                  <a:tab algn="l" pos="26060400"/>
                  <a:tab algn="l" pos="26784360"/>
                  <a:tab algn="l" pos="27508320"/>
                  <a:tab algn="l" pos="28232280"/>
                  <a:tab algn="l" pos="28955880"/>
                  <a:tab algn="l" pos="29679840"/>
                  <a:tab algn="l" pos="304038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Courier New"/>
                  <a:ea typeface="HG Mincho Light J"/>
                </a:rPr>
                <a:t>  </a:t>
              </a:r>
              <a:r>
                <a:rPr b="0" lang="en-GB" sz="900" spc="-1" strike="noStrike">
                  <a:solidFill>
                    <a:srgbClr val="000000"/>
                  </a:solidFill>
                  <a:latin typeface="Courier New"/>
                  <a:ea typeface="HG Mincho Light J"/>
                </a:rPr>
                <a:t>&lt;wsdl:operation name="search" parameterOrder="q format max"&gt;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134720"/>
                  <a:tab algn="l" pos="10858680"/>
                  <a:tab algn="l" pos="11582280"/>
                  <a:tab algn="l" pos="12306240"/>
                  <a:tab algn="l" pos="13030200"/>
                  <a:tab algn="l" pos="13754160"/>
                  <a:tab algn="l" pos="14478120"/>
                  <a:tab algn="l" pos="15202080"/>
                  <a:tab algn="l" pos="15925680"/>
                  <a:tab algn="l" pos="16649640"/>
                  <a:tab algn="l" pos="17373600"/>
                  <a:tab algn="l" pos="18097560"/>
                  <a:tab algn="l" pos="18821520"/>
                  <a:tab algn="l" pos="19545480"/>
                  <a:tab algn="l" pos="20269080"/>
                  <a:tab algn="l" pos="20993040"/>
                  <a:tab algn="l" pos="21717000"/>
                  <a:tab algn="l" pos="22440960"/>
                  <a:tab algn="l" pos="23164920"/>
                  <a:tab algn="l" pos="23888880"/>
                  <a:tab algn="l" pos="24612480"/>
                  <a:tab algn="l" pos="25336440"/>
                  <a:tab algn="l" pos="26060400"/>
                  <a:tab algn="l" pos="26784360"/>
                  <a:tab algn="l" pos="27508320"/>
                  <a:tab algn="l" pos="28232280"/>
                  <a:tab algn="l" pos="28955880"/>
                  <a:tab algn="l" pos="29679840"/>
                  <a:tab algn="l" pos="304038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Courier New"/>
                  <a:ea typeface="HG Mincho Light J"/>
                </a:rPr>
                <a:t>     </a:t>
              </a:r>
              <a:r>
                <a:rPr b="0" lang="en-GB" sz="900" spc="-1" strike="noStrike">
                  <a:solidFill>
                    <a:srgbClr val="000000"/>
                  </a:solidFill>
                  <a:latin typeface="Courier New"/>
                  <a:ea typeface="HG Mincho Light J"/>
                </a:rPr>
                <a:t>&lt;wsdl:input name="searchRequest1" message="impl:searchRequest1"/&gt;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134720"/>
                  <a:tab algn="l" pos="10858680"/>
                  <a:tab algn="l" pos="11582280"/>
                  <a:tab algn="l" pos="12306240"/>
                  <a:tab algn="l" pos="13030200"/>
                  <a:tab algn="l" pos="13754160"/>
                  <a:tab algn="l" pos="14478120"/>
                  <a:tab algn="l" pos="15202080"/>
                  <a:tab algn="l" pos="15925680"/>
                  <a:tab algn="l" pos="16649640"/>
                  <a:tab algn="l" pos="17373600"/>
                  <a:tab algn="l" pos="18097560"/>
                  <a:tab algn="l" pos="18821520"/>
                  <a:tab algn="l" pos="19545480"/>
                  <a:tab algn="l" pos="20269080"/>
                  <a:tab algn="l" pos="20993040"/>
                  <a:tab algn="l" pos="21717000"/>
                  <a:tab algn="l" pos="22440960"/>
                  <a:tab algn="l" pos="23164920"/>
                  <a:tab algn="l" pos="23888880"/>
                  <a:tab algn="l" pos="24612480"/>
                  <a:tab algn="l" pos="25336440"/>
                  <a:tab algn="l" pos="26060400"/>
                  <a:tab algn="l" pos="26784360"/>
                  <a:tab algn="l" pos="27508320"/>
                  <a:tab algn="l" pos="28232280"/>
                  <a:tab algn="l" pos="28955880"/>
                  <a:tab algn="l" pos="29679840"/>
                  <a:tab algn="l" pos="304038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Courier New"/>
                  <a:ea typeface="HG Mincho Light J"/>
                </a:rPr>
                <a:t>     </a:t>
              </a:r>
              <a:r>
                <a:rPr b="0" lang="en-GB" sz="900" spc="-1" strike="noStrike">
                  <a:solidFill>
                    <a:srgbClr val="000000"/>
                  </a:solidFill>
                  <a:latin typeface="Courier New"/>
                  <a:ea typeface="HG Mincho Light J"/>
                </a:rPr>
                <a:t>&lt;wsdl:output name="searchResponse1" message="impl:searchResponse1"/&gt;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134720"/>
                  <a:tab algn="l" pos="10858680"/>
                  <a:tab algn="l" pos="11582280"/>
                  <a:tab algn="l" pos="12306240"/>
                  <a:tab algn="l" pos="13030200"/>
                  <a:tab algn="l" pos="13754160"/>
                  <a:tab algn="l" pos="14478120"/>
                  <a:tab algn="l" pos="15202080"/>
                  <a:tab algn="l" pos="15925680"/>
                  <a:tab algn="l" pos="16649640"/>
                  <a:tab algn="l" pos="17373600"/>
                  <a:tab algn="l" pos="18097560"/>
                  <a:tab algn="l" pos="18821520"/>
                  <a:tab algn="l" pos="19545480"/>
                  <a:tab algn="l" pos="20269080"/>
                  <a:tab algn="l" pos="20993040"/>
                  <a:tab algn="l" pos="21717000"/>
                  <a:tab algn="l" pos="22440960"/>
                  <a:tab algn="l" pos="23164920"/>
                  <a:tab algn="l" pos="23888880"/>
                  <a:tab algn="l" pos="24612480"/>
                  <a:tab algn="l" pos="25336440"/>
                  <a:tab algn="l" pos="26060400"/>
                  <a:tab algn="l" pos="26784360"/>
                  <a:tab algn="l" pos="27508320"/>
                  <a:tab algn="l" pos="28232280"/>
                  <a:tab algn="l" pos="28955880"/>
                  <a:tab algn="l" pos="29679840"/>
                  <a:tab algn="l" pos="304038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Courier New"/>
                  <a:ea typeface="HG Mincho Light J"/>
                </a:rPr>
                <a:t>  </a:t>
              </a:r>
              <a:r>
                <a:rPr b="0" lang="en-GB" sz="900" spc="-1" strike="noStrike">
                  <a:solidFill>
                    <a:srgbClr val="000000"/>
                  </a:solidFill>
                  <a:latin typeface="Courier New"/>
                  <a:ea typeface="HG Mincho Light J"/>
                </a:rPr>
                <a:t>&lt;/wsdl:operation&gt;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134720"/>
                  <a:tab algn="l" pos="10858680"/>
                  <a:tab algn="l" pos="11582280"/>
                  <a:tab algn="l" pos="12306240"/>
                  <a:tab algn="l" pos="13030200"/>
                  <a:tab algn="l" pos="13754160"/>
                  <a:tab algn="l" pos="14478120"/>
                  <a:tab algn="l" pos="15202080"/>
                  <a:tab algn="l" pos="15925680"/>
                  <a:tab algn="l" pos="16649640"/>
                  <a:tab algn="l" pos="17373600"/>
                  <a:tab algn="l" pos="18097560"/>
                  <a:tab algn="l" pos="18821520"/>
                  <a:tab algn="l" pos="19545480"/>
                  <a:tab algn="l" pos="20269080"/>
                  <a:tab algn="l" pos="20993040"/>
                  <a:tab algn="l" pos="21717000"/>
                  <a:tab algn="l" pos="22440960"/>
                  <a:tab algn="l" pos="23164920"/>
                  <a:tab algn="l" pos="23888880"/>
                  <a:tab algn="l" pos="24612480"/>
                  <a:tab algn="l" pos="25336440"/>
                  <a:tab algn="l" pos="26060400"/>
                  <a:tab algn="l" pos="26784360"/>
                  <a:tab algn="l" pos="27508320"/>
                  <a:tab algn="l" pos="28232280"/>
                  <a:tab algn="l" pos="28955880"/>
                  <a:tab algn="l" pos="29679840"/>
                  <a:tab algn="l" pos="304038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Courier New"/>
                  <a:ea typeface="HG Mincho Light J"/>
                </a:rPr>
                <a:t>  </a:t>
              </a:r>
              <a:r>
                <a:rPr b="0" lang="en-GB" sz="900" spc="-1" strike="noStrike">
                  <a:solidFill>
                    <a:srgbClr val="000000"/>
                  </a:solidFill>
                  <a:latin typeface="Courier New"/>
                  <a:ea typeface="HG Mincho Light J"/>
                </a:rPr>
                <a:t>&lt;wsdl:operation name="lookup" parameterOrder="lib id"&gt;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134720"/>
                  <a:tab algn="l" pos="10858680"/>
                  <a:tab algn="l" pos="11582280"/>
                  <a:tab algn="l" pos="12306240"/>
                  <a:tab algn="l" pos="13030200"/>
                  <a:tab algn="l" pos="13754160"/>
                  <a:tab algn="l" pos="14478120"/>
                  <a:tab algn="l" pos="15202080"/>
                  <a:tab algn="l" pos="15925680"/>
                  <a:tab algn="l" pos="16649640"/>
                  <a:tab algn="l" pos="17373600"/>
                  <a:tab algn="l" pos="18097560"/>
                  <a:tab algn="l" pos="18821520"/>
                  <a:tab algn="l" pos="19545480"/>
                  <a:tab algn="l" pos="20269080"/>
                  <a:tab algn="l" pos="20993040"/>
                  <a:tab algn="l" pos="21717000"/>
                  <a:tab algn="l" pos="22440960"/>
                  <a:tab algn="l" pos="23164920"/>
                  <a:tab algn="l" pos="23888880"/>
                  <a:tab algn="l" pos="24612480"/>
                  <a:tab algn="l" pos="25336440"/>
                  <a:tab algn="l" pos="26060400"/>
                  <a:tab algn="l" pos="26784360"/>
                  <a:tab algn="l" pos="27508320"/>
                  <a:tab algn="l" pos="28232280"/>
                  <a:tab algn="l" pos="28955880"/>
                  <a:tab algn="l" pos="29679840"/>
                  <a:tab algn="l" pos="304038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Courier New"/>
                  <a:ea typeface="HG Mincho Light J"/>
                </a:rPr>
                <a:t>     </a:t>
              </a:r>
              <a:r>
                <a:rPr b="0" lang="en-GB" sz="900" spc="-1" strike="noStrike">
                  <a:solidFill>
                    <a:srgbClr val="000000"/>
                  </a:solidFill>
                  <a:latin typeface="Courier New"/>
                  <a:ea typeface="HG Mincho Light J"/>
                </a:rPr>
                <a:t>&lt;wsdl:input name="lookupRequest" message="impl:lookupRequest"/&gt;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134720"/>
                  <a:tab algn="l" pos="10858680"/>
                  <a:tab algn="l" pos="11582280"/>
                  <a:tab algn="l" pos="12306240"/>
                  <a:tab algn="l" pos="13030200"/>
                  <a:tab algn="l" pos="13754160"/>
                  <a:tab algn="l" pos="14478120"/>
                  <a:tab algn="l" pos="15202080"/>
                  <a:tab algn="l" pos="15925680"/>
                  <a:tab algn="l" pos="16649640"/>
                  <a:tab algn="l" pos="17373600"/>
                  <a:tab algn="l" pos="18097560"/>
                  <a:tab algn="l" pos="18821520"/>
                  <a:tab algn="l" pos="19545480"/>
                  <a:tab algn="l" pos="20269080"/>
                  <a:tab algn="l" pos="20993040"/>
                  <a:tab algn="l" pos="21717000"/>
                  <a:tab algn="l" pos="22440960"/>
                  <a:tab algn="l" pos="23164920"/>
                  <a:tab algn="l" pos="23888880"/>
                  <a:tab algn="l" pos="24612480"/>
                  <a:tab algn="l" pos="25336440"/>
                  <a:tab algn="l" pos="26060400"/>
                  <a:tab algn="l" pos="26784360"/>
                  <a:tab algn="l" pos="27508320"/>
                  <a:tab algn="l" pos="28232280"/>
                  <a:tab algn="l" pos="28955880"/>
                  <a:tab algn="l" pos="29679840"/>
                  <a:tab algn="l" pos="304038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Courier New"/>
                  <a:ea typeface="HG Mincho Light J"/>
                </a:rPr>
                <a:t>     </a:t>
              </a:r>
              <a:r>
                <a:rPr b="0" lang="en-GB" sz="900" spc="-1" strike="noStrike">
                  <a:solidFill>
                    <a:srgbClr val="000000"/>
                  </a:solidFill>
                  <a:latin typeface="Courier New"/>
                  <a:ea typeface="HG Mincho Light J"/>
                </a:rPr>
                <a:t>&lt;wsdl:output name="lookupResponse" message="impl:lookupResponse"/&gt;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134720"/>
                  <a:tab algn="l" pos="10858680"/>
                  <a:tab algn="l" pos="11582280"/>
                  <a:tab algn="l" pos="12306240"/>
                  <a:tab algn="l" pos="13030200"/>
                  <a:tab algn="l" pos="13754160"/>
                  <a:tab algn="l" pos="14478120"/>
                  <a:tab algn="l" pos="15202080"/>
                  <a:tab algn="l" pos="15925680"/>
                  <a:tab algn="l" pos="16649640"/>
                  <a:tab algn="l" pos="17373600"/>
                  <a:tab algn="l" pos="18097560"/>
                  <a:tab algn="l" pos="18821520"/>
                  <a:tab algn="l" pos="19545480"/>
                  <a:tab algn="l" pos="20269080"/>
                  <a:tab algn="l" pos="20993040"/>
                  <a:tab algn="l" pos="21717000"/>
                  <a:tab algn="l" pos="22440960"/>
                  <a:tab algn="l" pos="23164920"/>
                  <a:tab algn="l" pos="23888880"/>
                  <a:tab algn="l" pos="24612480"/>
                  <a:tab algn="l" pos="25336440"/>
                  <a:tab algn="l" pos="26060400"/>
                  <a:tab algn="l" pos="26784360"/>
                  <a:tab algn="l" pos="27508320"/>
                  <a:tab algn="l" pos="28232280"/>
                  <a:tab algn="l" pos="28955880"/>
                  <a:tab algn="l" pos="29679840"/>
                  <a:tab algn="l" pos="304038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Courier New"/>
                  <a:ea typeface="HG Mincho Light J"/>
                </a:rPr>
                <a:t>  </a:t>
              </a:r>
              <a:r>
                <a:rPr b="0" lang="en-GB" sz="900" spc="-1" strike="noStrike">
                  <a:solidFill>
                    <a:srgbClr val="000000"/>
                  </a:solidFill>
                  <a:latin typeface="Courier New"/>
                  <a:ea typeface="HG Mincho Light J"/>
                </a:rPr>
                <a:t>&lt;/wsdl:operation&gt;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134720"/>
                  <a:tab algn="l" pos="10858680"/>
                  <a:tab algn="l" pos="11582280"/>
                  <a:tab algn="l" pos="12306240"/>
                  <a:tab algn="l" pos="13030200"/>
                  <a:tab algn="l" pos="13754160"/>
                  <a:tab algn="l" pos="14478120"/>
                  <a:tab algn="l" pos="15202080"/>
                  <a:tab algn="l" pos="15925680"/>
                  <a:tab algn="l" pos="16649640"/>
                  <a:tab algn="l" pos="17373600"/>
                  <a:tab algn="l" pos="18097560"/>
                  <a:tab algn="l" pos="18821520"/>
                  <a:tab algn="l" pos="19545480"/>
                  <a:tab algn="l" pos="20269080"/>
                  <a:tab algn="l" pos="20993040"/>
                  <a:tab algn="l" pos="21717000"/>
                  <a:tab algn="l" pos="22440960"/>
                  <a:tab algn="l" pos="23164920"/>
                  <a:tab algn="l" pos="23888880"/>
                  <a:tab algn="l" pos="24612480"/>
                  <a:tab algn="l" pos="25336440"/>
                  <a:tab algn="l" pos="26060400"/>
                  <a:tab algn="l" pos="26784360"/>
                  <a:tab algn="l" pos="27508320"/>
                  <a:tab algn="l" pos="28232280"/>
                  <a:tab algn="l" pos="28955880"/>
                  <a:tab algn="l" pos="29679840"/>
                  <a:tab algn="l" pos="304038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Courier New"/>
                  <a:ea typeface="HG Mincho Light J"/>
                </a:rPr>
                <a:t>  </a:t>
              </a:r>
              <a:r>
                <a:rPr b="0" lang="en-GB" sz="900" spc="-1" strike="noStrike">
                  <a:solidFill>
                    <a:srgbClr val="000000"/>
                  </a:solidFill>
                  <a:latin typeface="Courier New"/>
                  <a:ea typeface="HG Mincho Light J"/>
                </a:rPr>
                <a:t>&lt;wsdl:operation name="lookup" parameterOrder="lib field val"&gt;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134720"/>
                  <a:tab algn="l" pos="10858680"/>
                  <a:tab algn="l" pos="11582280"/>
                  <a:tab algn="l" pos="12306240"/>
                  <a:tab algn="l" pos="13030200"/>
                  <a:tab algn="l" pos="13754160"/>
                  <a:tab algn="l" pos="14478120"/>
                  <a:tab algn="l" pos="15202080"/>
                  <a:tab algn="l" pos="15925680"/>
                  <a:tab algn="l" pos="16649640"/>
                  <a:tab algn="l" pos="17373600"/>
                  <a:tab algn="l" pos="18097560"/>
                  <a:tab algn="l" pos="18821520"/>
                  <a:tab algn="l" pos="19545480"/>
                  <a:tab algn="l" pos="20269080"/>
                  <a:tab algn="l" pos="20993040"/>
                  <a:tab algn="l" pos="21717000"/>
                  <a:tab algn="l" pos="22440960"/>
                  <a:tab algn="l" pos="23164920"/>
                  <a:tab algn="l" pos="23888880"/>
                  <a:tab algn="l" pos="24612480"/>
                  <a:tab algn="l" pos="25336440"/>
                  <a:tab algn="l" pos="26060400"/>
                  <a:tab algn="l" pos="26784360"/>
                  <a:tab algn="l" pos="27508320"/>
                  <a:tab algn="l" pos="28232280"/>
                  <a:tab algn="l" pos="28955880"/>
                  <a:tab algn="l" pos="29679840"/>
                  <a:tab algn="l" pos="304038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Courier New"/>
                  <a:ea typeface="HG Mincho Light J"/>
                </a:rPr>
                <a:t>     </a:t>
              </a:r>
              <a:r>
                <a:rPr b="0" lang="en-GB" sz="900" spc="-1" strike="noStrike">
                  <a:solidFill>
                    <a:srgbClr val="000000"/>
                  </a:solidFill>
                  <a:latin typeface="Courier New"/>
                  <a:ea typeface="HG Mincho Light J"/>
                </a:rPr>
                <a:t>&lt;wsdl:input name="lookupRequest1" message="impl:lookupRequest1"/&gt;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134720"/>
                  <a:tab algn="l" pos="10858680"/>
                  <a:tab algn="l" pos="11582280"/>
                  <a:tab algn="l" pos="12306240"/>
                  <a:tab algn="l" pos="13030200"/>
                  <a:tab algn="l" pos="13754160"/>
                  <a:tab algn="l" pos="14478120"/>
                  <a:tab algn="l" pos="15202080"/>
                  <a:tab algn="l" pos="15925680"/>
                  <a:tab algn="l" pos="16649640"/>
                  <a:tab algn="l" pos="17373600"/>
                  <a:tab algn="l" pos="18097560"/>
                  <a:tab algn="l" pos="18821520"/>
                  <a:tab algn="l" pos="19545480"/>
                  <a:tab algn="l" pos="20269080"/>
                  <a:tab algn="l" pos="20993040"/>
                  <a:tab algn="l" pos="21717000"/>
                  <a:tab algn="l" pos="22440960"/>
                  <a:tab algn="l" pos="23164920"/>
                  <a:tab algn="l" pos="23888880"/>
                  <a:tab algn="l" pos="24612480"/>
                  <a:tab algn="l" pos="25336440"/>
                  <a:tab algn="l" pos="26060400"/>
                  <a:tab algn="l" pos="26784360"/>
                  <a:tab algn="l" pos="27508320"/>
                  <a:tab algn="l" pos="28232280"/>
                  <a:tab algn="l" pos="28955880"/>
                  <a:tab algn="l" pos="29679840"/>
                  <a:tab algn="l" pos="304038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Courier New"/>
                  <a:ea typeface="HG Mincho Light J"/>
                </a:rPr>
                <a:t>     </a:t>
              </a:r>
              <a:r>
                <a:rPr b="0" lang="en-GB" sz="900" spc="-1" strike="noStrike">
                  <a:solidFill>
                    <a:srgbClr val="000000"/>
                  </a:solidFill>
                  <a:latin typeface="Courier New"/>
                  <a:ea typeface="HG Mincho Light J"/>
                </a:rPr>
                <a:t>&lt;wsdl:output name="lookupResponse1" message="impl:lookupResponse1"/&gt;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134720"/>
                  <a:tab algn="l" pos="10858680"/>
                  <a:tab algn="l" pos="11582280"/>
                  <a:tab algn="l" pos="12306240"/>
                  <a:tab algn="l" pos="13030200"/>
                  <a:tab algn="l" pos="13754160"/>
                  <a:tab algn="l" pos="14478120"/>
                  <a:tab algn="l" pos="15202080"/>
                  <a:tab algn="l" pos="15925680"/>
                  <a:tab algn="l" pos="16649640"/>
                  <a:tab algn="l" pos="17373600"/>
                  <a:tab algn="l" pos="18097560"/>
                  <a:tab algn="l" pos="18821520"/>
                  <a:tab algn="l" pos="19545480"/>
                  <a:tab algn="l" pos="20269080"/>
                  <a:tab algn="l" pos="20993040"/>
                  <a:tab algn="l" pos="21717000"/>
                  <a:tab algn="l" pos="22440960"/>
                  <a:tab algn="l" pos="23164920"/>
                  <a:tab algn="l" pos="23888880"/>
                  <a:tab algn="l" pos="24612480"/>
                  <a:tab algn="l" pos="25336440"/>
                  <a:tab algn="l" pos="26060400"/>
                  <a:tab algn="l" pos="26784360"/>
                  <a:tab algn="l" pos="27508320"/>
                  <a:tab algn="l" pos="28232280"/>
                  <a:tab algn="l" pos="28955880"/>
                  <a:tab algn="l" pos="29679840"/>
                  <a:tab algn="l" pos="304038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Courier New"/>
                  <a:ea typeface="HG Mincho Light J"/>
                </a:rPr>
                <a:t>  </a:t>
              </a:r>
              <a:r>
                <a:rPr b="0" lang="en-GB" sz="900" spc="-1" strike="noStrike">
                  <a:solidFill>
                    <a:srgbClr val="000000"/>
                  </a:solidFill>
                  <a:latin typeface="Courier New"/>
                  <a:ea typeface="HG Mincho Light J"/>
                </a:rPr>
                <a:t>&lt;/wsdl:operation&gt;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134720"/>
                  <a:tab algn="l" pos="10858680"/>
                  <a:tab algn="l" pos="11582280"/>
                  <a:tab algn="l" pos="12306240"/>
                  <a:tab algn="l" pos="13030200"/>
                  <a:tab algn="l" pos="13754160"/>
                  <a:tab algn="l" pos="14478120"/>
                  <a:tab algn="l" pos="15202080"/>
                  <a:tab algn="l" pos="15925680"/>
                  <a:tab algn="l" pos="16649640"/>
                  <a:tab algn="l" pos="17373600"/>
                  <a:tab algn="l" pos="18097560"/>
                  <a:tab algn="l" pos="18821520"/>
                  <a:tab algn="l" pos="19545480"/>
                  <a:tab algn="l" pos="20269080"/>
                  <a:tab algn="l" pos="20993040"/>
                  <a:tab algn="l" pos="21717000"/>
                  <a:tab algn="l" pos="22440960"/>
                  <a:tab algn="l" pos="23164920"/>
                  <a:tab algn="l" pos="23888880"/>
                  <a:tab algn="l" pos="24612480"/>
                  <a:tab algn="l" pos="25336440"/>
                  <a:tab algn="l" pos="26060400"/>
                  <a:tab algn="l" pos="26784360"/>
                  <a:tab algn="l" pos="27508320"/>
                  <a:tab algn="l" pos="28232280"/>
                  <a:tab algn="l" pos="28955880"/>
                  <a:tab algn="l" pos="29679840"/>
                  <a:tab algn="l" pos="304038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Courier New"/>
                  <a:ea typeface="HG Mincho Light J"/>
                </a:rPr>
                <a:t>  </a:t>
              </a:r>
              <a:r>
                <a:rPr b="0" lang="en-GB" sz="900" spc="-1" strike="noStrike">
                  <a:solidFill>
                    <a:srgbClr val="000000"/>
                  </a:solidFill>
                  <a:latin typeface="Courier New"/>
                  <a:ea typeface="HG Mincho Light J"/>
                </a:rPr>
                <a:t>&lt;wsdl:operation name="close" parameterOrder="sid"&gt;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134720"/>
                  <a:tab algn="l" pos="10858680"/>
                  <a:tab algn="l" pos="11582280"/>
                  <a:tab algn="l" pos="12306240"/>
                  <a:tab algn="l" pos="13030200"/>
                  <a:tab algn="l" pos="13754160"/>
                  <a:tab algn="l" pos="14478120"/>
                  <a:tab algn="l" pos="15202080"/>
                  <a:tab algn="l" pos="15925680"/>
                  <a:tab algn="l" pos="16649640"/>
                  <a:tab algn="l" pos="17373600"/>
                  <a:tab algn="l" pos="18097560"/>
                  <a:tab algn="l" pos="18821520"/>
                  <a:tab algn="l" pos="19545480"/>
                  <a:tab algn="l" pos="20269080"/>
                  <a:tab algn="l" pos="20993040"/>
                  <a:tab algn="l" pos="21717000"/>
                  <a:tab algn="l" pos="22440960"/>
                  <a:tab algn="l" pos="23164920"/>
                  <a:tab algn="l" pos="23888880"/>
                  <a:tab algn="l" pos="24612480"/>
                  <a:tab algn="l" pos="25336440"/>
                  <a:tab algn="l" pos="26060400"/>
                  <a:tab algn="l" pos="26784360"/>
                  <a:tab algn="l" pos="27508320"/>
                  <a:tab algn="l" pos="28232280"/>
                  <a:tab algn="l" pos="28955880"/>
                  <a:tab algn="l" pos="29679840"/>
                  <a:tab algn="l" pos="304038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Courier New"/>
                  <a:ea typeface="HG Mincho Light J"/>
                </a:rPr>
                <a:t>     </a:t>
              </a:r>
              <a:r>
                <a:rPr b="0" lang="en-GB" sz="900" spc="-1" strike="noStrike">
                  <a:solidFill>
                    <a:srgbClr val="000000"/>
                  </a:solidFill>
                  <a:latin typeface="Courier New"/>
                  <a:ea typeface="HG Mincho Light J"/>
                </a:rPr>
                <a:t>&lt;wsdl:input name="closeRequest" message="impl:closeRequest"/&gt;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134720"/>
                  <a:tab algn="l" pos="10858680"/>
                  <a:tab algn="l" pos="11582280"/>
                  <a:tab algn="l" pos="12306240"/>
                  <a:tab algn="l" pos="13030200"/>
                  <a:tab algn="l" pos="13754160"/>
                  <a:tab algn="l" pos="14478120"/>
                  <a:tab algn="l" pos="15202080"/>
                  <a:tab algn="l" pos="15925680"/>
                  <a:tab algn="l" pos="16649640"/>
                  <a:tab algn="l" pos="17373600"/>
                  <a:tab algn="l" pos="18097560"/>
                  <a:tab algn="l" pos="18821520"/>
                  <a:tab algn="l" pos="19545480"/>
                  <a:tab algn="l" pos="20269080"/>
                  <a:tab algn="l" pos="20993040"/>
                  <a:tab algn="l" pos="21717000"/>
                  <a:tab algn="l" pos="22440960"/>
                  <a:tab algn="l" pos="23164920"/>
                  <a:tab algn="l" pos="23888880"/>
                  <a:tab algn="l" pos="24612480"/>
                  <a:tab algn="l" pos="25336440"/>
                  <a:tab algn="l" pos="26060400"/>
                  <a:tab algn="l" pos="26784360"/>
                  <a:tab algn="l" pos="27508320"/>
                  <a:tab algn="l" pos="28232280"/>
                  <a:tab algn="l" pos="28955880"/>
                  <a:tab algn="l" pos="29679840"/>
                  <a:tab algn="l" pos="304038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Courier New"/>
                  <a:ea typeface="HG Mincho Light J"/>
                </a:rPr>
                <a:t>     </a:t>
              </a:r>
              <a:r>
                <a:rPr b="0" lang="en-GB" sz="900" spc="-1" strike="noStrike">
                  <a:solidFill>
                    <a:srgbClr val="000000"/>
                  </a:solidFill>
                  <a:latin typeface="Courier New"/>
                  <a:ea typeface="HG Mincho Light J"/>
                </a:rPr>
                <a:t>&lt;wsdl:output name="closeResponse" message="impl:closeResponse"/&gt;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134720"/>
                  <a:tab algn="l" pos="10858680"/>
                  <a:tab algn="l" pos="11582280"/>
                  <a:tab algn="l" pos="12306240"/>
                  <a:tab algn="l" pos="13030200"/>
                  <a:tab algn="l" pos="13754160"/>
                  <a:tab algn="l" pos="14478120"/>
                  <a:tab algn="l" pos="15202080"/>
                  <a:tab algn="l" pos="15925680"/>
                  <a:tab algn="l" pos="16649640"/>
                  <a:tab algn="l" pos="17373600"/>
                  <a:tab algn="l" pos="18097560"/>
                  <a:tab algn="l" pos="18821520"/>
                  <a:tab algn="l" pos="19545480"/>
                  <a:tab algn="l" pos="20269080"/>
                  <a:tab algn="l" pos="20993040"/>
                  <a:tab algn="l" pos="21717000"/>
                  <a:tab algn="l" pos="22440960"/>
                  <a:tab algn="l" pos="23164920"/>
                  <a:tab algn="l" pos="23888880"/>
                  <a:tab algn="l" pos="24612480"/>
                  <a:tab algn="l" pos="25336440"/>
                  <a:tab algn="l" pos="26060400"/>
                  <a:tab algn="l" pos="26784360"/>
                  <a:tab algn="l" pos="27508320"/>
                  <a:tab algn="l" pos="28232280"/>
                  <a:tab algn="l" pos="28955880"/>
                  <a:tab algn="l" pos="29679840"/>
                  <a:tab algn="l" pos="304038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Courier New"/>
                  <a:ea typeface="HG Mincho Light J"/>
                </a:rPr>
                <a:t>  </a:t>
              </a:r>
              <a:r>
                <a:rPr b="0" lang="en-GB" sz="900" spc="-1" strike="noStrike">
                  <a:solidFill>
                    <a:srgbClr val="000000"/>
                  </a:solidFill>
                  <a:latin typeface="Courier New"/>
                  <a:ea typeface="HG Mincho Light J"/>
                </a:rPr>
                <a:t>&lt;/wsdl:operation&gt;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134720"/>
                  <a:tab algn="l" pos="10858680"/>
                  <a:tab algn="l" pos="11582280"/>
                  <a:tab algn="l" pos="12306240"/>
                  <a:tab algn="l" pos="13030200"/>
                  <a:tab algn="l" pos="13754160"/>
                  <a:tab algn="l" pos="14478120"/>
                  <a:tab algn="l" pos="15202080"/>
                  <a:tab algn="l" pos="15925680"/>
                  <a:tab algn="l" pos="16649640"/>
                  <a:tab algn="l" pos="17373600"/>
                  <a:tab algn="l" pos="18097560"/>
                  <a:tab algn="l" pos="18821520"/>
                  <a:tab algn="l" pos="19545480"/>
                  <a:tab algn="l" pos="20269080"/>
                  <a:tab algn="l" pos="20993040"/>
                  <a:tab algn="l" pos="21717000"/>
                  <a:tab algn="l" pos="22440960"/>
                  <a:tab algn="l" pos="23164920"/>
                  <a:tab algn="l" pos="23888880"/>
                  <a:tab algn="l" pos="24612480"/>
                  <a:tab algn="l" pos="25336440"/>
                  <a:tab algn="l" pos="26060400"/>
                  <a:tab algn="l" pos="26784360"/>
                  <a:tab algn="l" pos="27508320"/>
                  <a:tab algn="l" pos="28232280"/>
                  <a:tab algn="l" pos="28955880"/>
                  <a:tab algn="l" pos="29679840"/>
                  <a:tab algn="l" pos="304038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Courier New"/>
                  <a:ea typeface="HG Mincho Light J"/>
                </a:rPr>
                <a:t>  </a:t>
              </a:r>
              <a:r>
                <a:rPr b="0" lang="en-GB" sz="900" spc="-1" strike="noStrike">
                  <a:solidFill>
                    <a:srgbClr val="000000"/>
                  </a:solidFill>
                  <a:latin typeface="Courier New"/>
                  <a:ea typeface="HG Mincho Light J"/>
                </a:rPr>
                <a:t>&lt;wsdl:operation name="directory"&gt;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134720"/>
                  <a:tab algn="l" pos="10858680"/>
                  <a:tab algn="l" pos="11582280"/>
                  <a:tab algn="l" pos="12306240"/>
                  <a:tab algn="l" pos="13030200"/>
                  <a:tab algn="l" pos="13754160"/>
                  <a:tab algn="l" pos="14478120"/>
                  <a:tab algn="l" pos="15202080"/>
                  <a:tab algn="l" pos="15925680"/>
                  <a:tab algn="l" pos="16649640"/>
                  <a:tab algn="l" pos="17373600"/>
                  <a:tab algn="l" pos="18097560"/>
                  <a:tab algn="l" pos="18821520"/>
                  <a:tab algn="l" pos="19545480"/>
                  <a:tab algn="l" pos="20269080"/>
                  <a:tab algn="l" pos="20993040"/>
                  <a:tab algn="l" pos="21717000"/>
                  <a:tab algn="l" pos="22440960"/>
                  <a:tab algn="l" pos="23164920"/>
                  <a:tab algn="l" pos="23888880"/>
                  <a:tab algn="l" pos="24612480"/>
                  <a:tab algn="l" pos="25336440"/>
                  <a:tab algn="l" pos="26060400"/>
                  <a:tab algn="l" pos="26784360"/>
                  <a:tab algn="l" pos="27508320"/>
                  <a:tab algn="l" pos="28232280"/>
                  <a:tab algn="l" pos="28955880"/>
                  <a:tab algn="l" pos="29679840"/>
                  <a:tab algn="l" pos="304038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Courier New"/>
                  <a:ea typeface="HG Mincho Light J"/>
                </a:rPr>
                <a:t>     </a:t>
              </a:r>
              <a:r>
                <a:rPr b="0" lang="en-GB" sz="900" spc="-1" strike="noStrike">
                  <a:solidFill>
                    <a:srgbClr val="000000"/>
                  </a:solidFill>
                  <a:latin typeface="Courier New"/>
                  <a:ea typeface="HG Mincho Light J"/>
                </a:rPr>
                <a:t>&lt;wsdl:input name="directoryRequest" message="impl:directoryRequest"/&gt;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134720"/>
                  <a:tab algn="l" pos="10858680"/>
                  <a:tab algn="l" pos="11582280"/>
                  <a:tab algn="l" pos="12306240"/>
                  <a:tab algn="l" pos="13030200"/>
                  <a:tab algn="l" pos="13754160"/>
                  <a:tab algn="l" pos="14478120"/>
                  <a:tab algn="l" pos="15202080"/>
                  <a:tab algn="l" pos="15925680"/>
                  <a:tab algn="l" pos="16649640"/>
                  <a:tab algn="l" pos="17373600"/>
                  <a:tab algn="l" pos="18097560"/>
                  <a:tab algn="l" pos="18821520"/>
                  <a:tab algn="l" pos="19545480"/>
                  <a:tab algn="l" pos="20269080"/>
                  <a:tab algn="l" pos="20993040"/>
                  <a:tab algn="l" pos="21717000"/>
                  <a:tab algn="l" pos="22440960"/>
                  <a:tab algn="l" pos="23164920"/>
                  <a:tab algn="l" pos="23888880"/>
                  <a:tab algn="l" pos="24612480"/>
                  <a:tab algn="l" pos="25336440"/>
                  <a:tab algn="l" pos="26060400"/>
                  <a:tab algn="l" pos="26784360"/>
                  <a:tab algn="l" pos="27508320"/>
                  <a:tab algn="l" pos="28232280"/>
                  <a:tab algn="l" pos="28955880"/>
                  <a:tab algn="l" pos="29679840"/>
                  <a:tab algn="l" pos="304038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Courier New"/>
                  <a:ea typeface="HG Mincho Light J"/>
                </a:rPr>
                <a:t>     </a:t>
              </a:r>
              <a:r>
                <a:rPr b="0" lang="en-GB" sz="900" spc="-1" strike="noStrike">
                  <a:solidFill>
                    <a:srgbClr val="000000"/>
                  </a:solidFill>
                  <a:latin typeface="Courier New"/>
                  <a:ea typeface="HG Mincho Light J"/>
                </a:rPr>
                <a:t>&lt;wsdl:output name="directoryResponse" message="impl:directoryResponse"/&gt;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134720"/>
                  <a:tab algn="l" pos="10858680"/>
                  <a:tab algn="l" pos="11582280"/>
                  <a:tab algn="l" pos="12306240"/>
                  <a:tab algn="l" pos="13030200"/>
                  <a:tab algn="l" pos="13754160"/>
                  <a:tab algn="l" pos="14478120"/>
                  <a:tab algn="l" pos="15202080"/>
                  <a:tab algn="l" pos="15925680"/>
                  <a:tab algn="l" pos="16649640"/>
                  <a:tab algn="l" pos="17373600"/>
                  <a:tab algn="l" pos="18097560"/>
                  <a:tab algn="l" pos="18821520"/>
                  <a:tab algn="l" pos="19545480"/>
                  <a:tab algn="l" pos="20269080"/>
                  <a:tab algn="l" pos="20993040"/>
                  <a:tab algn="l" pos="21717000"/>
                  <a:tab algn="l" pos="22440960"/>
                  <a:tab algn="l" pos="23164920"/>
                  <a:tab algn="l" pos="23888880"/>
                  <a:tab algn="l" pos="24612480"/>
                  <a:tab algn="l" pos="25336440"/>
                  <a:tab algn="l" pos="26060400"/>
                  <a:tab algn="l" pos="26784360"/>
                  <a:tab algn="l" pos="27508320"/>
                  <a:tab algn="l" pos="28232280"/>
                  <a:tab algn="l" pos="28955880"/>
                  <a:tab algn="l" pos="29679840"/>
                  <a:tab algn="l" pos="304038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Courier New"/>
                  <a:ea typeface="HG Mincho Light J"/>
                </a:rPr>
                <a:t>  </a:t>
              </a:r>
              <a:r>
                <a:rPr b="0" lang="en-GB" sz="900" spc="-1" strike="noStrike">
                  <a:solidFill>
                    <a:srgbClr val="000000"/>
                  </a:solidFill>
                  <a:latin typeface="Courier New"/>
                  <a:ea typeface="HG Mincho Light J"/>
                </a:rPr>
                <a:t>&lt;/wsdl:operation&gt;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134720"/>
                  <a:tab algn="l" pos="10858680"/>
                  <a:tab algn="l" pos="11582280"/>
                  <a:tab algn="l" pos="12306240"/>
                  <a:tab algn="l" pos="13030200"/>
                  <a:tab algn="l" pos="13754160"/>
                  <a:tab algn="l" pos="14478120"/>
                  <a:tab algn="l" pos="15202080"/>
                  <a:tab algn="l" pos="15925680"/>
                  <a:tab algn="l" pos="16649640"/>
                  <a:tab algn="l" pos="17373600"/>
                  <a:tab algn="l" pos="18097560"/>
                  <a:tab algn="l" pos="18821520"/>
                  <a:tab algn="l" pos="19545480"/>
                  <a:tab algn="l" pos="20269080"/>
                  <a:tab algn="l" pos="20993040"/>
                  <a:tab algn="l" pos="21717000"/>
                  <a:tab algn="l" pos="22440960"/>
                  <a:tab algn="l" pos="23164920"/>
                  <a:tab algn="l" pos="23888880"/>
                  <a:tab algn="l" pos="24612480"/>
                  <a:tab algn="l" pos="25336440"/>
                  <a:tab algn="l" pos="26060400"/>
                  <a:tab algn="l" pos="26784360"/>
                  <a:tab algn="l" pos="27508320"/>
                  <a:tab algn="l" pos="28232280"/>
                  <a:tab algn="l" pos="28955880"/>
                  <a:tab algn="l" pos="29679840"/>
                  <a:tab algn="l" pos="304038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Courier New"/>
                  <a:ea typeface="HG Mincho Light J"/>
                </a:rPr>
                <a:t>&lt;/wsdl:portType&gt;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134720"/>
                  <a:tab algn="l" pos="10858680"/>
                  <a:tab algn="l" pos="11582280"/>
                  <a:tab algn="l" pos="12306240"/>
                  <a:tab algn="l" pos="13030200"/>
                  <a:tab algn="l" pos="13754160"/>
                  <a:tab algn="l" pos="14478120"/>
                  <a:tab algn="l" pos="15202080"/>
                  <a:tab algn="l" pos="15925680"/>
                  <a:tab algn="l" pos="16649640"/>
                  <a:tab algn="l" pos="17373600"/>
                  <a:tab algn="l" pos="18097560"/>
                  <a:tab algn="l" pos="18821520"/>
                  <a:tab algn="l" pos="19545480"/>
                  <a:tab algn="l" pos="20269080"/>
                  <a:tab algn="l" pos="20993040"/>
                  <a:tab algn="l" pos="21717000"/>
                  <a:tab algn="l" pos="22440960"/>
                  <a:tab algn="l" pos="23164920"/>
                  <a:tab algn="l" pos="23888880"/>
                  <a:tab algn="l" pos="24612480"/>
                  <a:tab algn="l" pos="25336440"/>
                  <a:tab algn="l" pos="26060400"/>
                  <a:tab algn="l" pos="26784360"/>
                  <a:tab algn="l" pos="27508320"/>
                  <a:tab algn="l" pos="28232280"/>
                  <a:tab algn="l" pos="28955880"/>
                  <a:tab algn="l" pos="29679840"/>
                  <a:tab algn="l" pos="304038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Courier New"/>
                  <a:ea typeface="HG Mincho Light J"/>
                </a:rPr>
                <a:t>&lt;wsdl:binding name="directorySoapBinding" type="impl:Directory"&gt;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134720"/>
                  <a:tab algn="l" pos="10858680"/>
                  <a:tab algn="l" pos="11582280"/>
                  <a:tab algn="l" pos="12306240"/>
                  <a:tab algn="l" pos="13030200"/>
                  <a:tab algn="l" pos="13754160"/>
                  <a:tab algn="l" pos="14478120"/>
                  <a:tab algn="l" pos="15202080"/>
                  <a:tab algn="l" pos="15925680"/>
                  <a:tab algn="l" pos="16649640"/>
                  <a:tab algn="l" pos="17373600"/>
                  <a:tab algn="l" pos="18097560"/>
                  <a:tab algn="l" pos="18821520"/>
                  <a:tab algn="l" pos="19545480"/>
                  <a:tab algn="l" pos="20269080"/>
                  <a:tab algn="l" pos="20993040"/>
                  <a:tab algn="l" pos="21717000"/>
                  <a:tab algn="l" pos="22440960"/>
                  <a:tab algn="l" pos="23164920"/>
                  <a:tab algn="l" pos="23888880"/>
                  <a:tab algn="l" pos="24612480"/>
                  <a:tab algn="l" pos="25336440"/>
                  <a:tab algn="l" pos="26060400"/>
                  <a:tab algn="l" pos="26784360"/>
                  <a:tab algn="l" pos="27508320"/>
                  <a:tab algn="l" pos="28232280"/>
                  <a:tab algn="l" pos="28955880"/>
                  <a:tab algn="l" pos="29679840"/>
                  <a:tab algn="l" pos="304038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Courier New"/>
                  <a:ea typeface="HG Mincho Light J"/>
                </a:rPr>
                <a:t>  </a:t>
              </a:r>
              <a:r>
                <a:rPr b="0" lang="en-GB" sz="900" spc="-1" strike="noStrike">
                  <a:solidFill>
                    <a:srgbClr val="000000"/>
                  </a:solidFill>
                  <a:latin typeface="Courier New"/>
                  <a:ea typeface="HG Mincho Light J"/>
                </a:rPr>
                <a:t>&lt;wsdlsoap:binding style="rpc" transport="http://schemas.xmlsoap.org/soap/http"/&gt;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134720"/>
                  <a:tab algn="l" pos="10858680"/>
                  <a:tab algn="l" pos="11582280"/>
                  <a:tab algn="l" pos="12306240"/>
                  <a:tab algn="l" pos="13030200"/>
                  <a:tab algn="l" pos="13754160"/>
                  <a:tab algn="l" pos="14478120"/>
                  <a:tab algn="l" pos="15202080"/>
                  <a:tab algn="l" pos="15925680"/>
                  <a:tab algn="l" pos="16649640"/>
                  <a:tab algn="l" pos="17373600"/>
                  <a:tab algn="l" pos="18097560"/>
                  <a:tab algn="l" pos="18821520"/>
                  <a:tab algn="l" pos="19545480"/>
                  <a:tab algn="l" pos="20269080"/>
                  <a:tab algn="l" pos="20993040"/>
                  <a:tab algn="l" pos="21717000"/>
                  <a:tab algn="l" pos="22440960"/>
                  <a:tab algn="l" pos="23164920"/>
                  <a:tab algn="l" pos="23888880"/>
                  <a:tab algn="l" pos="24612480"/>
                  <a:tab algn="l" pos="25336440"/>
                  <a:tab algn="l" pos="26060400"/>
                  <a:tab algn="l" pos="26784360"/>
                  <a:tab algn="l" pos="27508320"/>
                  <a:tab algn="l" pos="28232280"/>
                  <a:tab algn="l" pos="28955880"/>
                  <a:tab algn="l" pos="29679840"/>
                  <a:tab algn="l" pos="304038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Courier New"/>
                  <a:ea typeface="HG Mincho Light J"/>
                </a:rPr>
                <a:t>  </a:t>
              </a:r>
              <a:r>
                <a:rPr b="0" lang="en-GB" sz="900" spc="-1" strike="noStrike">
                  <a:solidFill>
                    <a:srgbClr val="000000"/>
                  </a:solidFill>
                  <a:latin typeface="Courier New"/>
                  <a:ea typeface="HG Mincho Light J"/>
                </a:rPr>
                <a:t>&lt;wsdl:operation name="formats"&gt;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134720"/>
                  <a:tab algn="l" pos="10858680"/>
                  <a:tab algn="l" pos="11582280"/>
                  <a:tab algn="l" pos="12306240"/>
                  <a:tab algn="l" pos="13030200"/>
                  <a:tab algn="l" pos="13754160"/>
                  <a:tab algn="l" pos="14478120"/>
                  <a:tab algn="l" pos="15202080"/>
                  <a:tab algn="l" pos="15925680"/>
                  <a:tab algn="l" pos="16649640"/>
                  <a:tab algn="l" pos="17373600"/>
                  <a:tab algn="l" pos="18097560"/>
                  <a:tab algn="l" pos="18821520"/>
                  <a:tab algn="l" pos="19545480"/>
                  <a:tab algn="l" pos="20269080"/>
                  <a:tab algn="l" pos="20993040"/>
                  <a:tab algn="l" pos="21717000"/>
                  <a:tab algn="l" pos="22440960"/>
                  <a:tab algn="l" pos="23164920"/>
                  <a:tab algn="l" pos="23888880"/>
                  <a:tab algn="l" pos="24612480"/>
                  <a:tab algn="l" pos="25336440"/>
                  <a:tab algn="l" pos="26060400"/>
                  <a:tab algn="l" pos="26784360"/>
                  <a:tab algn="l" pos="27508320"/>
                  <a:tab algn="l" pos="28232280"/>
                  <a:tab algn="l" pos="28955880"/>
                  <a:tab algn="l" pos="29679840"/>
                  <a:tab algn="l" pos="304038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Courier New"/>
                  <a:ea typeface="HG Mincho Light J"/>
                </a:rPr>
                <a:t>     </a:t>
              </a:r>
              <a:r>
                <a:rPr b="0" lang="en-GB" sz="900" spc="-1" strike="noStrike">
                  <a:solidFill>
                    <a:srgbClr val="000000"/>
                  </a:solidFill>
                  <a:latin typeface="Courier New"/>
                  <a:ea typeface="HG Mincho Light J"/>
                </a:rPr>
                <a:t>&lt;wsdlsoap:operation soapAction=""/&gt;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134720"/>
                  <a:tab algn="l" pos="10858680"/>
                  <a:tab algn="l" pos="11582280"/>
                  <a:tab algn="l" pos="12306240"/>
                  <a:tab algn="l" pos="13030200"/>
                  <a:tab algn="l" pos="13754160"/>
                  <a:tab algn="l" pos="14478120"/>
                  <a:tab algn="l" pos="15202080"/>
                  <a:tab algn="l" pos="15925680"/>
                  <a:tab algn="l" pos="16649640"/>
                  <a:tab algn="l" pos="17373600"/>
                  <a:tab algn="l" pos="18097560"/>
                  <a:tab algn="l" pos="18821520"/>
                  <a:tab algn="l" pos="19545480"/>
                  <a:tab algn="l" pos="20269080"/>
                  <a:tab algn="l" pos="20993040"/>
                  <a:tab algn="l" pos="21717000"/>
                  <a:tab algn="l" pos="22440960"/>
                  <a:tab algn="l" pos="23164920"/>
                  <a:tab algn="l" pos="23888880"/>
                  <a:tab algn="l" pos="24612480"/>
                  <a:tab algn="l" pos="25336440"/>
                  <a:tab algn="l" pos="26060400"/>
                  <a:tab algn="l" pos="26784360"/>
                  <a:tab algn="l" pos="27508320"/>
                  <a:tab algn="l" pos="28232280"/>
                  <a:tab algn="l" pos="28955880"/>
                  <a:tab algn="l" pos="29679840"/>
                  <a:tab algn="l" pos="304038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Courier New"/>
                  <a:ea typeface="HG Mincho Light J"/>
                </a:rPr>
                <a:t>     </a:t>
              </a:r>
              <a:r>
                <a:rPr b="0" lang="en-GB" sz="900" spc="-1" strike="noStrike">
                  <a:solidFill>
                    <a:srgbClr val="000000"/>
                  </a:solidFill>
                  <a:latin typeface="Courier New"/>
                  <a:ea typeface="HG Mincho Light J"/>
                </a:rPr>
                <a:t>&lt;wsdl:input name="formatsRequest"&gt;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134720"/>
                  <a:tab algn="l" pos="10858680"/>
                  <a:tab algn="l" pos="11582280"/>
                  <a:tab algn="l" pos="12306240"/>
                  <a:tab algn="l" pos="13030200"/>
                  <a:tab algn="l" pos="13754160"/>
                  <a:tab algn="l" pos="14478120"/>
                  <a:tab algn="l" pos="15202080"/>
                  <a:tab algn="l" pos="15925680"/>
                  <a:tab algn="l" pos="16649640"/>
                  <a:tab algn="l" pos="17373600"/>
                  <a:tab algn="l" pos="18097560"/>
                  <a:tab algn="l" pos="18821520"/>
                  <a:tab algn="l" pos="19545480"/>
                  <a:tab algn="l" pos="20269080"/>
                  <a:tab algn="l" pos="20993040"/>
                  <a:tab algn="l" pos="21717000"/>
                  <a:tab algn="l" pos="22440960"/>
                  <a:tab algn="l" pos="23164920"/>
                  <a:tab algn="l" pos="23888880"/>
                  <a:tab algn="l" pos="24612480"/>
                  <a:tab algn="l" pos="25336440"/>
                  <a:tab algn="l" pos="26060400"/>
                  <a:tab algn="l" pos="26784360"/>
                  <a:tab algn="l" pos="27508320"/>
                  <a:tab algn="l" pos="28232280"/>
                  <a:tab algn="l" pos="28955880"/>
                  <a:tab algn="l" pos="29679840"/>
                  <a:tab algn="l" pos="304038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Courier New"/>
                  <a:ea typeface="HG Mincho Light J"/>
                </a:rPr>
                <a:t>        </a:t>
              </a:r>
              <a:r>
                <a:rPr b="0" lang="en-GB" sz="900" spc="-1" strike="noStrike">
                  <a:solidFill>
                    <a:srgbClr val="000000"/>
                  </a:solidFill>
                  <a:latin typeface="Courier New"/>
                  <a:ea typeface="HG Mincho Light J"/>
                </a:rPr>
                <a:t>&lt;wsdlsoap:body use="encoded" encodingStyle="http://schemas.xmlsoap.org/soap/encoding/" namespace="http://eugenes.org/services"/&gt;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134720"/>
                  <a:tab algn="l" pos="10858680"/>
                  <a:tab algn="l" pos="11582280"/>
                  <a:tab algn="l" pos="12306240"/>
                  <a:tab algn="l" pos="13030200"/>
                  <a:tab algn="l" pos="13754160"/>
                  <a:tab algn="l" pos="14478120"/>
                  <a:tab algn="l" pos="15202080"/>
                  <a:tab algn="l" pos="15925680"/>
                  <a:tab algn="l" pos="16649640"/>
                  <a:tab algn="l" pos="17373600"/>
                  <a:tab algn="l" pos="18097560"/>
                  <a:tab algn="l" pos="18821520"/>
                  <a:tab algn="l" pos="19545480"/>
                  <a:tab algn="l" pos="20269080"/>
                  <a:tab algn="l" pos="20993040"/>
                  <a:tab algn="l" pos="21717000"/>
                  <a:tab algn="l" pos="22440960"/>
                  <a:tab algn="l" pos="23164920"/>
                  <a:tab algn="l" pos="23888880"/>
                  <a:tab algn="l" pos="24612480"/>
                  <a:tab algn="l" pos="25336440"/>
                  <a:tab algn="l" pos="26060400"/>
                  <a:tab algn="l" pos="26784360"/>
                  <a:tab algn="l" pos="27508320"/>
                  <a:tab algn="l" pos="28232280"/>
                  <a:tab algn="l" pos="28955880"/>
                  <a:tab algn="l" pos="29679840"/>
                  <a:tab algn="l" pos="304038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Courier New"/>
                  <a:ea typeface="HG Mincho Light J"/>
                </a:rPr>
                <a:t>     </a:t>
              </a:r>
              <a:r>
                <a:rPr b="0" lang="en-GB" sz="900" spc="-1" strike="noStrike">
                  <a:solidFill>
                    <a:srgbClr val="000000"/>
                  </a:solidFill>
                  <a:latin typeface="Courier New"/>
                  <a:ea typeface="HG Mincho Light J"/>
                </a:rPr>
                <a:t>&lt;/wsdl:input&gt;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134720"/>
                  <a:tab algn="l" pos="10858680"/>
                  <a:tab algn="l" pos="11582280"/>
                  <a:tab algn="l" pos="12306240"/>
                  <a:tab algn="l" pos="13030200"/>
                  <a:tab algn="l" pos="13754160"/>
                  <a:tab algn="l" pos="14478120"/>
                  <a:tab algn="l" pos="15202080"/>
                  <a:tab algn="l" pos="15925680"/>
                  <a:tab algn="l" pos="16649640"/>
                  <a:tab algn="l" pos="17373600"/>
                  <a:tab algn="l" pos="18097560"/>
                  <a:tab algn="l" pos="18821520"/>
                  <a:tab algn="l" pos="19545480"/>
                  <a:tab algn="l" pos="20269080"/>
                  <a:tab algn="l" pos="20993040"/>
                  <a:tab algn="l" pos="21717000"/>
                  <a:tab algn="l" pos="22440960"/>
                  <a:tab algn="l" pos="23164920"/>
                  <a:tab algn="l" pos="23888880"/>
                  <a:tab algn="l" pos="24612480"/>
                  <a:tab algn="l" pos="25336440"/>
                  <a:tab algn="l" pos="26060400"/>
                  <a:tab algn="l" pos="26784360"/>
                  <a:tab algn="l" pos="27508320"/>
                  <a:tab algn="l" pos="28232280"/>
                  <a:tab algn="l" pos="28955880"/>
                  <a:tab algn="l" pos="29679840"/>
                  <a:tab algn="l" pos="304038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Courier New"/>
                  <a:ea typeface="HG Mincho Light J"/>
                </a:rPr>
                <a:t>     </a:t>
              </a:r>
              <a:r>
                <a:rPr b="0" lang="en-GB" sz="900" spc="-1" strike="noStrike">
                  <a:solidFill>
                    <a:srgbClr val="000000"/>
                  </a:solidFill>
                  <a:latin typeface="Courier New"/>
                  <a:ea typeface="HG Mincho Light J"/>
                </a:rPr>
                <a:t>&lt;wsdl:output name="formatsResponse"&gt;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134720"/>
                  <a:tab algn="l" pos="10858680"/>
                  <a:tab algn="l" pos="11582280"/>
                  <a:tab algn="l" pos="12306240"/>
                  <a:tab algn="l" pos="13030200"/>
                  <a:tab algn="l" pos="13754160"/>
                  <a:tab algn="l" pos="14478120"/>
                  <a:tab algn="l" pos="15202080"/>
                  <a:tab algn="l" pos="15925680"/>
                  <a:tab algn="l" pos="16649640"/>
                  <a:tab algn="l" pos="17373600"/>
                  <a:tab algn="l" pos="18097560"/>
                  <a:tab algn="l" pos="18821520"/>
                  <a:tab algn="l" pos="19545480"/>
                  <a:tab algn="l" pos="20269080"/>
                  <a:tab algn="l" pos="20993040"/>
                  <a:tab algn="l" pos="21717000"/>
                  <a:tab algn="l" pos="22440960"/>
                  <a:tab algn="l" pos="23164920"/>
                  <a:tab algn="l" pos="23888880"/>
                  <a:tab algn="l" pos="24612480"/>
                  <a:tab algn="l" pos="25336440"/>
                  <a:tab algn="l" pos="26060400"/>
                  <a:tab algn="l" pos="26784360"/>
                  <a:tab algn="l" pos="27508320"/>
                  <a:tab algn="l" pos="28232280"/>
                  <a:tab algn="l" pos="28955880"/>
                  <a:tab algn="l" pos="29679840"/>
                  <a:tab algn="l" pos="304038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Courier New"/>
                  <a:ea typeface="HG Mincho Light J"/>
                </a:rPr>
                <a:t>        </a:t>
              </a:r>
              <a:r>
                <a:rPr b="0" lang="en-GB" sz="900" spc="-1" strike="noStrike">
                  <a:solidFill>
                    <a:srgbClr val="000000"/>
                  </a:solidFill>
                  <a:latin typeface="Courier New"/>
                  <a:ea typeface="HG Mincho Light J"/>
                </a:rPr>
                <a:t>&lt;wsdlsoap:body use="encoded" encodingStyle="http://schemas.xmlsoap.org/soap/encoding/" namespace="http://eugenes.org/services"/&gt;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134720"/>
                  <a:tab algn="l" pos="10858680"/>
                  <a:tab algn="l" pos="11582280"/>
                  <a:tab algn="l" pos="12306240"/>
                  <a:tab algn="l" pos="13030200"/>
                  <a:tab algn="l" pos="13754160"/>
                  <a:tab algn="l" pos="14478120"/>
                  <a:tab algn="l" pos="15202080"/>
                  <a:tab algn="l" pos="15925680"/>
                  <a:tab algn="l" pos="16649640"/>
                  <a:tab algn="l" pos="17373600"/>
                  <a:tab algn="l" pos="18097560"/>
                  <a:tab algn="l" pos="18821520"/>
                  <a:tab algn="l" pos="19545480"/>
                  <a:tab algn="l" pos="20269080"/>
                  <a:tab algn="l" pos="20993040"/>
                  <a:tab algn="l" pos="21717000"/>
                  <a:tab algn="l" pos="22440960"/>
                  <a:tab algn="l" pos="23164920"/>
                  <a:tab algn="l" pos="23888880"/>
                  <a:tab algn="l" pos="24612480"/>
                  <a:tab algn="l" pos="25336440"/>
                  <a:tab algn="l" pos="26060400"/>
                  <a:tab algn="l" pos="26784360"/>
                  <a:tab algn="l" pos="27508320"/>
                  <a:tab algn="l" pos="28232280"/>
                  <a:tab algn="l" pos="28955880"/>
                  <a:tab algn="l" pos="29679840"/>
                  <a:tab algn="l" pos="304038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Courier New"/>
                  <a:ea typeface="HG Mincho Light J"/>
                </a:rPr>
                <a:t>     </a:t>
              </a:r>
              <a:r>
                <a:rPr b="0" lang="en-GB" sz="900" spc="-1" strike="noStrike">
                  <a:solidFill>
                    <a:srgbClr val="000000"/>
                  </a:solidFill>
                  <a:latin typeface="Courier New"/>
                  <a:ea typeface="HG Mincho Light J"/>
                </a:rPr>
                <a:t>&lt;/wsdl:output&gt;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134720"/>
                  <a:tab algn="l" pos="10858680"/>
                  <a:tab algn="l" pos="11582280"/>
                  <a:tab algn="l" pos="12306240"/>
                  <a:tab algn="l" pos="13030200"/>
                  <a:tab algn="l" pos="13754160"/>
                  <a:tab algn="l" pos="14478120"/>
                  <a:tab algn="l" pos="15202080"/>
                  <a:tab algn="l" pos="15925680"/>
                  <a:tab algn="l" pos="16649640"/>
                  <a:tab algn="l" pos="17373600"/>
                  <a:tab algn="l" pos="18097560"/>
                  <a:tab algn="l" pos="18821520"/>
                  <a:tab algn="l" pos="19545480"/>
                  <a:tab algn="l" pos="20269080"/>
                  <a:tab algn="l" pos="20993040"/>
                  <a:tab algn="l" pos="21717000"/>
                  <a:tab algn="l" pos="22440960"/>
                  <a:tab algn="l" pos="23164920"/>
                  <a:tab algn="l" pos="23888880"/>
                  <a:tab algn="l" pos="24612480"/>
                  <a:tab algn="l" pos="25336440"/>
                  <a:tab algn="l" pos="26060400"/>
                  <a:tab algn="l" pos="26784360"/>
                  <a:tab algn="l" pos="27508320"/>
                  <a:tab algn="l" pos="28232280"/>
                  <a:tab algn="l" pos="28955880"/>
                  <a:tab algn="l" pos="29679840"/>
                  <a:tab algn="l" pos="304038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Courier New"/>
                  <a:ea typeface="HG Mincho Light J"/>
                </a:rPr>
                <a:t>  </a:t>
              </a:r>
              <a:r>
                <a:rPr b="0" lang="en-GB" sz="900" spc="-1" strike="noStrike">
                  <a:solidFill>
                    <a:srgbClr val="000000"/>
                  </a:solidFill>
                  <a:latin typeface="Courier New"/>
                  <a:ea typeface="HG Mincho Light J"/>
                </a:rPr>
                <a:t>&lt;/wsdl:operation&gt;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134720"/>
                  <a:tab algn="l" pos="10858680"/>
                  <a:tab algn="l" pos="11582280"/>
                  <a:tab algn="l" pos="12306240"/>
                  <a:tab algn="l" pos="13030200"/>
                  <a:tab algn="l" pos="13754160"/>
                  <a:tab algn="l" pos="14478120"/>
                  <a:tab algn="l" pos="15202080"/>
                  <a:tab algn="l" pos="15925680"/>
                  <a:tab algn="l" pos="16649640"/>
                  <a:tab algn="l" pos="17373600"/>
                  <a:tab algn="l" pos="18097560"/>
                  <a:tab algn="l" pos="18821520"/>
                  <a:tab algn="l" pos="19545480"/>
                  <a:tab algn="l" pos="20269080"/>
                  <a:tab algn="l" pos="20993040"/>
                  <a:tab algn="l" pos="21717000"/>
                  <a:tab algn="l" pos="22440960"/>
                  <a:tab algn="l" pos="23164920"/>
                  <a:tab algn="l" pos="23888880"/>
                  <a:tab algn="l" pos="24612480"/>
                  <a:tab algn="l" pos="25336440"/>
                  <a:tab algn="l" pos="26060400"/>
                  <a:tab algn="l" pos="26784360"/>
                  <a:tab algn="l" pos="27508320"/>
                  <a:tab algn="l" pos="28232280"/>
                  <a:tab algn="l" pos="28955880"/>
                  <a:tab algn="l" pos="29679840"/>
                  <a:tab algn="l" pos="304038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Courier New"/>
                  <a:ea typeface="HG Mincho Light J"/>
                </a:rPr>
                <a:t>  </a:t>
              </a:r>
              <a:r>
                <a:rPr b="0" lang="en-GB" sz="900" spc="-1" strike="noStrike">
                  <a:solidFill>
                    <a:srgbClr val="000000"/>
                  </a:solidFill>
                  <a:latin typeface="Courier New"/>
                  <a:ea typeface="HG Mincho Light J"/>
                </a:rPr>
                <a:t>&lt;!-- ... --&gt;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134720"/>
                  <a:tab algn="l" pos="10858680"/>
                  <a:tab algn="l" pos="11582280"/>
                  <a:tab algn="l" pos="12306240"/>
                  <a:tab algn="l" pos="13030200"/>
                  <a:tab algn="l" pos="13754160"/>
                  <a:tab algn="l" pos="14478120"/>
                  <a:tab algn="l" pos="15202080"/>
                  <a:tab algn="l" pos="15925680"/>
                  <a:tab algn="l" pos="16649640"/>
                  <a:tab algn="l" pos="17373600"/>
                  <a:tab algn="l" pos="18097560"/>
                  <a:tab algn="l" pos="18821520"/>
                  <a:tab algn="l" pos="19545480"/>
                  <a:tab algn="l" pos="20269080"/>
                  <a:tab algn="l" pos="20993040"/>
                  <a:tab algn="l" pos="21717000"/>
                  <a:tab algn="l" pos="22440960"/>
                  <a:tab algn="l" pos="23164920"/>
                  <a:tab algn="l" pos="23888880"/>
                  <a:tab algn="l" pos="24612480"/>
                  <a:tab algn="l" pos="25336440"/>
                  <a:tab algn="l" pos="26060400"/>
                  <a:tab algn="l" pos="26784360"/>
                  <a:tab algn="l" pos="27508320"/>
                  <a:tab algn="l" pos="28232280"/>
                  <a:tab algn="l" pos="28955880"/>
                  <a:tab algn="l" pos="29679840"/>
                  <a:tab algn="l" pos="304038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Courier New"/>
                  <a:ea typeface="HG Mincho Light J"/>
                </a:rPr>
                <a:t>&lt;/wsdl:binding&gt;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134720"/>
                  <a:tab algn="l" pos="10858680"/>
                  <a:tab algn="l" pos="11582280"/>
                  <a:tab algn="l" pos="12306240"/>
                  <a:tab algn="l" pos="13030200"/>
                  <a:tab algn="l" pos="13754160"/>
                  <a:tab algn="l" pos="14478120"/>
                  <a:tab algn="l" pos="15202080"/>
                  <a:tab algn="l" pos="15925680"/>
                  <a:tab algn="l" pos="16649640"/>
                  <a:tab algn="l" pos="17373600"/>
                  <a:tab algn="l" pos="18097560"/>
                  <a:tab algn="l" pos="18821520"/>
                  <a:tab algn="l" pos="19545480"/>
                  <a:tab algn="l" pos="20269080"/>
                  <a:tab algn="l" pos="20993040"/>
                  <a:tab algn="l" pos="21717000"/>
                  <a:tab algn="l" pos="22440960"/>
                  <a:tab algn="l" pos="23164920"/>
                  <a:tab algn="l" pos="23888880"/>
                  <a:tab algn="l" pos="24612480"/>
                  <a:tab algn="l" pos="25336440"/>
                  <a:tab algn="l" pos="26060400"/>
                  <a:tab algn="l" pos="26784360"/>
                  <a:tab algn="l" pos="27508320"/>
                  <a:tab algn="l" pos="28232280"/>
                  <a:tab algn="l" pos="28955880"/>
                  <a:tab algn="l" pos="29679840"/>
                  <a:tab algn="l" pos="304038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Courier New"/>
                  <a:ea typeface="HG Mincho Light J"/>
                </a:rPr>
                <a:t>&lt;/wsdl:definitions&gt;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134720"/>
                  <a:tab algn="l" pos="10858680"/>
                  <a:tab algn="l" pos="11582280"/>
                  <a:tab algn="l" pos="12306240"/>
                  <a:tab algn="l" pos="13030200"/>
                  <a:tab algn="l" pos="13754160"/>
                  <a:tab algn="l" pos="14478120"/>
                  <a:tab algn="l" pos="15202080"/>
                  <a:tab algn="l" pos="15925680"/>
                  <a:tab algn="l" pos="16649640"/>
                  <a:tab algn="l" pos="17373600"/>
                  <a:tab algn="l" pos="18097560"/>
                  <a:tab algn="l" pos="18821520"/>
                  <a:tab algn="l" pos="19545480"/>
                  <a:tab algn="l" pos="20269080"/>
                  <a:tab algn="l" pos="20993040"/>
                  <a:tab algn="l" pos="21717000"/>
                  <a:tab algn="l" pos="22440960"/>
                  <a:tab algn="l" pos="23164920"/>
                  <a:tab algn="l" pos="23888880"/>
                  <a:tab algn="l" pos="24612480"/>
                  <a:tab algn="l" pos="25336440"/>
                  <a:tab algn="l" pos="26060400"/>
                  <a:tab algn="l" pos="26784360"/>
                  <a:tab algn="l" pos="27508320"/>
                  <a:tab algn="l" pos="28232280"/>
                  <a:tab algn="l" pos="28955880"/>
                  <a:tab algn="l" pos="29679840"/>
                  <a:tab algn="l" pos="304038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6851880" y="1981080"/>
            <a:ext cx="2289960" cy="4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irectory W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Arial"/>
                <a:ea typeface="HG Mincho Light J"/>
              </a:rPr>
              <a:t>Directory LDAP client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7620120" cy="5254920"/>
          </a:xfrm>
          <a:prstGeom prst="rect">
            <a:avLst/>
          </a:prstGeom>
          <a:solidFill>
            <a:srgbClr val="ffcc00">
              <a:alpha val="19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23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urier New"/>
              </a:rPr>
              <a:t>#!/usr/bin/per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# basic Perl LDAP client and sample bio-data UR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23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urier New"/>
              </a:rPr>
              <a:t># 'ldap://eugenes.org/??one'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23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urier New"/>
              </a:rPr>
              <a:t># 'ldap://eugenes.org:3895/srv=srs??sub?(&amp;(lib=swissprot)(des=kinesin))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23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urier New"/>
              </a:rPr>
              <a:t># 'ldap://eugenes.org:3891/spp=worm,srv=srsgnomap??one'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23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urier New"/>
              </a:rPr>
              <a:t># 'ldap://eugenes.org:3891/chr=2L,spp=fly,srv=srsgnomap??sub?(&amp;(|(objectClass=Featur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23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urier New"/>
              </a:rPr>
              <a:t>#  (objectClass=NA-Sequence))(|(ft=gene)(ft=CDS)(ft=insertion))(start=&gt;50000)(stop=&lt;80000))'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23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286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use URI::URL; use LWP::UserAgent; use Net::LDAP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286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foreach my $a (@ARGV) { ldapSearch($a) if ($a =~ m,^ldap://,); 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286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sub ldapSearch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286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my $url = new URI::URL(shif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286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if ($url-&gt;scheme ne 'ldap') { warn "not ldap: $url\n"; return; 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286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my $scope = $url-&gt;scope || "base"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286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my @opts = (scope =&gt; $scop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286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push @opts, "base" =&gt; $url-&gt;dn if $url-&gt;dn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286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push @opts, "filter" =&gt; $url-&gt;filter if $url-&gt;filter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286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my @attrs = $url-&gt;attributes; push @opts, "attrs" =&gt; \@attrs if @attrs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286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my @extn = $url-&gt;extensions; push @opts, @extn if (@ext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286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$ldap = new Net::LDAP($url-&gt;host, port =&gt; $url-&gt;port) or die "$@"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286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$ldap-&gt;bind; # anonymo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286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my $mesg = $ldap-&gt;search(@opts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286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if ($mesg-&gt;code) { warn $mesg-&gt;error,"\n"; 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286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else { foreach my $e ($mesg-&gt;all_entries) { $e-&gt;dump; } 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286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$ldap-&gt;unbind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286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Arial"/>
                <a:ea typeface="HG Mincho Light J"/>
              </a:rPr>
              <a:t>Directory Tests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726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88"/>
              </a:spcBef>
              <a:buClr>
                <a:srgbClr val="76b749"/>
              </a:buClr>
              <a:buFont typeface="Time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esign and test distributed access with LDAP and Web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76b749"/>
              </a:buClr>
              <a:buFont typeface="Time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c481cf"/>
                </a:solidFill>
                <a:latin typeface="Arial"/>
              </a:rPr>
              <a:t>SR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backend for efficient search/retrieval from GenBank, SwissProt/TrEMBL, LocusLink, Medline, many 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76b749"/>
              </a:buClr>
              <a:buFont typeface="Time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ind &amp; fetch 20,000 to 1.2 million ob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76b749"/>
              </a:buClr>
              <a:buFont typeface="Time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DAP is ~10x faster than Web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88"/>
              </a:spcBef>
              <a:buClr>
                <a:srgbClr val="76b749"/>
              </a:buClr>
              <a:buFont typeface="Time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ests in progress for IUBio, FlyBase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1"/>
          <a:srcRect l="6137" t="8825" r="6137" b="8825"/>
          <a:stretch/>
        </p:blipFill>
        <p:spPr>
          <a:xfrm>
            <a:off x="533520" y="1295280"/>
            <a:ext cx="7848360" cy="554364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7642080" y="2276640"/>
            <a:ext cx="184320" cy="457200"/>
          </a:xfrm>
          <a:custGeom>
            <a:avLst/>
            <a:gdLst>
              <a:gd name="textAreaLeft" fmla="*/ 360 w 184320"/>
              <a:gd name="textAreaRight" fmla="*/ 183960 w 184320"/>
              <a:gd name="textAreaTop" fmla="*/ 360 h 457200"/>
              <a:gd name="textAreaBottom" fmla="*/ 456840 h 457200"/>
            </a:gdLst>
            <a:ahLst/>
            <a:rect l="textAreaLeft" t="textAreaTop" r="textAreaRight" b="textAreaBottom"/>
            <a:pathLst>
              <a:path w="21600" h="53516">
                <a:moveTo>
                  <a:pt x="186" y="0"/>
                </a:moveTo>
                <a:arcTo wR="186" hR="186" stAng="16200000" swAng="-5400000"/>
                <a:lnTo>
                  <a:pt x="0" y="53330"/>
                </a:lnTo>
                <a:arcTo wR="186" hR="186" stAng="10800000" swAng="-5400000"/>
                <a:lnTo>
                  <a:pt x="21414" y="53516"/>
                </a:lnTo>
                <a:arcTo wR="186" hR="186" stAng="5400000" swAng="-5400000"/>
                <a:lnTo>
                  <a:pt x="21600" y="186"/>
                </a:lnTo>
                <a:arcTo wR="186" hR="186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964640" y="1488960"/>
            <a:ext cx="183960" cy="457200"/>
          </a:xfrm>
          <a:custGeom>
            <a:avLst/>
            <a:gdLst>
              <a:gd name="textAreaLeft" fmla="*/ 360 w 183960"/>
              <a:gd name="textAreaRight" fmla="*/ 183600 w 183960"/>
              <a:gd name="textAreaTop" fmla="*/ 360 h 457200"/>
              <a:gd name="textAreaBottom" fmla="*/ 456840 h 457200"/>
            </a:gdLst>
            <a:ahLst/>
            <a:rect l="textAreaLeft" t="textAreaTop" r="textAreaRight" b="textAreaBottom"/>
            <a:pathLst>
              <a:path w="21600" h="53620">
                <a:moveTo>
                  <a:pt x="186" y="0"/>
                </a:moveTo>
                <a:arcTo wR="186" hR="186" stAng="16200000" swAng="-5400000"/>
                <a:lnTo>
                  <a:pt x="0" y="53434"/>
                </a:lnTo>
                <a:arcTo wR="186" hR="186" stAng="10800000" swAng="-5400000"/>
                <a:lnTo>
                  <a:pt x="21414" y="53620"/>
                </a:lnTo>
                <a:arcTo wR="186" hR="186" stAng="5400000" swAng="-5400000"/>
                <a:lnTo>
                  <a:pt x="21600" y="186"/>
                </a:lnTo>
                <a:arcTo wR="186" hR="186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878600" y="2560680"/>
            <a:ext cx="184320" cy="457200"/>
          </a:xfrm>
          <a:custGeom>
            <a:avLst/>
            <a:gdLst>
              <a:gd name="textAreaLeft" fmla="*/ 360 w 184320"/>
              <a:gd name="textAreaRight" fmla="*/ 183960 w 184320"/>
              <a:gd name="textAreaTop" fmla="*/ 360 h 457200"/>
              <a:gd name="textAreaBottom" fmla="*/ 456840 h 457200"/>
            </a:gdLst>
            <a:ahLst/>
            <a:rect l="textAreaLeft" t="textAreaTop" r="textAreaRight" b="textAreaBottom"/>
            <a:pathLst>
              <a:path w="21600" h="53516">
                <a:moveTo>
                  <a:pt x="186" y="0"/>
                </a:moveTo>
                <a:arcTo wR="186" hR="186" stAng="16200000" swAng="-5400000"/>
                <a:lnTo>
                  <a:pt x="0" y="53330"/>
                </a:lnTo>
                <a:arcTo wR="186" hR="186" stAng="10800000" swAng="-5400000"/>
                <a:lnTo>
                  <a:pt x="21414" y="53516"/>
                </a:lnTo>
                <a:arcTo wR="186" hR="186" stAng="5400000" swAng="-5400000"/>
                <a:lnTo>
                  <a:pt x="21600" y="186"/>
                </a:lnTo>
                <a:arcTo wR="186" hR="186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546880" y="1650960"/>
            <a:ext cx="183960" cy="457200"/>
          </a:xfrm>
          <a:custGeom>
            <a:avLst/>
            <a:gdLst>
              <a:gd name="textAreaLeft" fmla="*/ 360 w 183960"/>
              <a:gd name="textAreaRight" fmla="*/ 183600 w 183960"/>
              <a:gd name="textAreaTop" fmla="*/ 360 h 457200"/>
              <a:gd name="textAreaBottom" fmla="*/ 456840 h 457200"/>
            </a:gdLst>
            <a:ahLst/>
            <a:rect l="textAreaLeft" t="textAreaTop" r="textAreaRight" b="textAreaBottom"/>
            <a:pathLst>
              <a:path w="21600" h="53620">
                <a:moveTo>
                  <a:pt x="186" y="0"/>
                </a:moveTo>
                <a:arcTo wR="186" hR="186" stAng="16200000" swAng="-5400000"/>
                <a:lnTo>
                  <a:pt x="0" y="53434"/>
                </a:lnTo>
                <a:arcTo wR="186" hR="186" stAng="10800000" swAng="-5400000"/>
                <a:lnTo>
                  <a:pt x="21414" y="53620"/>
                </a:lnTo>
                <a:arcTo wR="186" hR="186" stAng="5400000" swAng="-5400000"/>
                <a:lnTo>
                  <a:pt x="21600" y="186"/>
                </a:lnTo>
                <a:arcTo wR="186" hR="186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419880" y="1717560"/>
            <a:ext cx="183960" cy="457200"/>
          </a:xfrm>
          <a:custGeom>
            <a:avLst/>
            <a:gdLst>
              <a:gd name="textAreaLeft" fmla="*/ 360 w 183960"/>
              <a:gd name="textAreaRight" fmla="*/ 183600 w 183960"/>
              <a:gd name="textAreaTop" fmla="*/ 360 h 457200"/>
              <a:gd name="textAreaBottom" fmla="*/ 456840 h 457200"/>
            </a:gdLst>
            <a:ahLst/>
            <a:rect l="textAreaLeft" t="textAreaTop" r="textAreaRight" b="textAreaBottom"/>
            <a:pathLst>
              <a:path w="21600" h="53620">
                <a:moveTo>
                  <a:pt x="186" y="0"/>
                </a:moveTo>
                <a:arcTo wR="186" hR="186" stAng="16200000" swAng="-5400000"/>
                <a:lnTo>
                  <a:pt x="0" y="53434"/>
                </a:lnTo>
                <a:arcTo wR="186" hR="186" stAng="10800000" swAng="-5400000"/>
                <a:lnTo>
                  <a:pt x="21414" y="53620"/>
                </a:lnTo>
                <a:arcTo wR="186" hR="186" stAng="5400000" swAng="-5400000"/>
                <a:lnTo>
                  <a:pt x="21600" y="186"/>
                </a:lnTo>
                <a:arcTo wR="186" hR="186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916600" y="1166760"/>
            <a:ext cx="184320" cy="457200"/>
          </a:xfrm>
          <a:custGeom>
            <a:avLst/>
            <a:gdLst>
              <a:gd name="textAreaLeft" fmla="*/ 360 w 184320"/>
              <a:gd name="textAreaRight" fmla="*/ 183960 w 184320"/>
              <a:gd name="textAreaTop" fmla="*/ 360 h 457200"/>
              <a:gd name="textAreaBottom" fmla="*/ 456840 h 457200"/>
            </a:gdLst>
            <a:ahLst/>
            <a:rect l="textAreaLeft" t="textAreaTop" r="textAreaRight" b="textAreaBottom"/>
            <a:pathLst>
              <a:path w="21600" h="53516">
                <a:moveTo>
                  <a:pt x="186" y="0"/>
                </a:moveTo>
                <a:arcTo wR="186" hR="186" stAng="16200000" swAng="-5400000"/>
                <a:lnTo>
                  <a:pt x="0" y="53330"/>
                </a:lnTo>
                <a:arcTo wR="186" hR="186" stAng="10800000" swAng="-5400000"/>
                <a:lnTo>
                  <a:pt x="21414" y="53516"/>
                </a:lnTo>
                <a:arcTo wR="186" hR="186" stAng="5400000" swAng="-5400000"/>
                <a:lnTo>
                  <a:pt x="21600" y="186"/>
                </a:lnTo>
                <a:arcTo wR="186" hR="186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817560" y="2550960"/>
            <a:ext cx="184320" cy="457200"/>
          </a:xfrm>
          <a:custGeom>
            <a:avLst/>
            <a:gdLst>
              <a:gd name="textAreaLeft" fmla="*/ 360 w 184320"/>
              <a:gd name="textAreaRight" fmla="*/ 183960 w 184320"/>
              <a:gd name="textAreaTop" fmla="*/ 360 h 457200"/>
              <a:gd name="textAreaBottom" fmla="*/ 456840 h 457200"/>
            </a:gdLst>
            <a:ahLst/>
            <a:rect l="textAreaLeft" t="textAreaTop" r="textAreaRight" b="textAreaBottom"/>
            <a:pathLst>
              <a:path w="21600" h="53516">
                <a:moveTo>
                  <a:pt x="186" y="0"/>
                </a:moveTo>
                <a:arcTo wR="186" hR="186" stAng="16200000" swAng="-5400000"/>
                <a:lnTo>
                  <a:pt x="0" y="53330"/>
                </a:lnTo>
                <a:arcTo wR="186" hR="186" stAng="10800000" swAng="-5400000"/>
                <a:lnTo>
                  <a:pt x="21414" y="53516"/>
                </a:lnTo>
                <a:arcTo wR="186" hR="186" stAng="5400000" swAng="-5400000"/>
                <a:lnTo>
                  <a:pt x="21600" y="186"/>
                </a:lnTo>
                <a:arcTo wR="186" hR="186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908000" y="2427120"/>
            <a:ext cx="184320" cy="457200"/>
          </a:xfrm>
          <a:custGeom>
            <a:avLst/>
            <a:gdLst>
              <a:gd name="textAreaLeft" fmla="*/ 360 w 184320"/>
              <a:gd name="textAreaRight" fmla="*/ 183960 w 184320"/>
              <a:gd name="textAreaTop" fmla="*/ 360 h 457200"/>
              <a:gd name="textAreaBottom" fmla="*/ 456840 h 457200"/>
            </a:gdLst>
            <a:ahLst/>
            <a:rect l="textAreaLeft" t="textAreaTop" r="textAreaRight" b="textAreaBottom"/>
            <a:pathLst>
              <a:path w="21600" h="53516">
                <a:moveTo>
                  <a:pt x="186" y="0"/>
                </a:moveTo>
                <a:arcTo wR="186" hR="186" stAng="16200000" swAng="-5400000"/>
                <a:lnTo>
                  <a:pt x="0" y="53330"/>
                </a:lnTo>
                <a:arcTo wR="186" hR="186" stAng="10800000" swAng="-5400000"/>
                <a:lnTo>
                  <a:pt x="21414" y="53516"/>
                </a:lnTo>
                <a:arcTo wR="186" hR="186" stAng="5400000" swAng="-5400000"/>
                <a:lnTo>
                  <a:pt x="21600" y="186"/>
                </a:lnTo>
                <a:arcTo wR="186" hR="186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486160" y="2370240"/>
            <a:ext cx="183960" cy="457200"/>
          </a:xfrm>
          <a:custGeom>
            <a:avLst/>
            <a:gdLst>
              <a:gd name="textAreaLeft" fmla="*/ 360 w 183960"/>
              <a:gd name="textAreaRight" fmla="*/ 183600 w 183960"/>
              <a:gd name="textAreaTop" fmla="*/ 360 h 457200"/>
              <a:gd name="textAreaBottom" fmla="*/ 456840 h 457200"/>
            </a:gdLst>
            <a:ahLst/>
            <a:rect l="textAreaLeft" t="textAreaTop" r="textAreaRight" b="textAreaBottom"/>
            <a:pathLst>
              <a:path w="21600" h="53620">
                <a:moveTo>
                  <a:pt x="186" y="0"/>
                </a:moveTo>
                <a:arcTo wR="186" hR="186" stAng="16200000" swAng="-5400000"/>
                <a:lnTo>
                  <a:pt x="0" y="53434"/>
                </a:lnTo>
                <a:arcTo wR="186" hR="186" stAng="10800000" swAng="-5400000"/>
                <a:lnTo>
                  <a:pt x="21414" y="53620"/>
                </a:lnTo>
                <a:arcTo wR="186" hR="186" stAng="5400000" swAng="-5400000"/>
                <a:lnTo>
                  <a:pt x="21600" y="186"/>
                </a:lnTo>
                <a:arcTo wR="186" hR="186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Arial"/>
                <a:ea typeface="HG Mincho Light J"/>
              </a:rPr>
              <a:t>Directory Tests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374400" y="1739880"/>
            <a:ext cx="8281800" cy="35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88"/>
              </a:spcBef>
              <a:buClr>
                <a:srgbClr val="76b749"/>
              </a:buClr>
              <a:buFont typeface="Time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asic Web-Services and LDAP access working in testing form; not stable nor finaliz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88"/>
              </a:spcBef>
              <a:buClr>
                <a:srgbClr val="76b749"/>
              </a:buClr>
              <a:buFont typeface="Time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io-Data categorization, schema, and meta-data for directories need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88"/>
              </a:spcBef>
              <a:buClr>
                <a:srgbClr val="76b749"/>
              </a:buClr>
              <a:buFont typeface="Time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rid (OGSA), OAI, other interfaces to be develop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82680" y="5105520"/>
            <a:ext cx="73526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  <a:ea typeface="HG Mincho Light J"/>
              </a:rPr>
              <a:t>Directory tests 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481cf"/>
                </a:solidFill>
                <a:latin typeface="Arial"/>
                <a:ea typeface="HG Mincho Light J"/>
              </a:rPr>
              <a:t>http://iubio.bio.indiana.edu/biogrid/directorie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HG Mincho Light J"/>
              </a:rPr>
              <a:t>/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title"/>
          </p:nvPr>
        </p:nvSpPr>
        <p:spPr>
          <a:xfrm>
            <a:off x="1294920" y="1522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Arial"/>
                <a:ea typeface="HG Mincho Light J"/>
              </a:rPr>
              <a:t>Directory Issues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380520" y="1599840"/>
            <a:ext cx="8504280" cy="510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587"/>
              </a:spcBef>
              <a:buClr>
                <a:srgbClr val="76b749"/>
              </a:buClr>
              <a:buFont typeface="Time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duce install &amp; update effor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437"/>
              </a:spcBef>
              <a:buClr>
                <a:srgbClr val="c481cf"/>
              </a:buClr>
              <a:buFont typeface="Time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place { fetch, compile, install, configure,…} loop for software+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437"/>
              </a:spcBef>
              <a:buClr>
                <a:srgbClr val="c481cf"/>
              </a:buClr>
              <a:buFont typeface="Time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art new system quickly - copy existing project &amp; edit to su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437"/>
              </a:spcBef>
              <a:buClr>
                <a:srgbClr val="c481cf"/>
              </a:buClr>
              <a:buFont typeface="Time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mpatible with most GMOD pro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437"/>
              </a:spcBef>
              <a:buClr>
                <a:srgbClr val="c481cf"/>
              </a:buClr>
              <a:buFont typeface="Time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mpares to EnsEMBL, WormBase, other distributable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587"/>
              </a:spcBef>
              <a:buClr>
                <a:srgbClr val="76b749"/>
              </a:buClr>
              <a:buFont typeface="Time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c481cf"/>
                </a:solidFill>
                <a:latin typeface="Arial"/>
              </a:rPr>
              <a:t>Reference serv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437"/>
              </a:spcBef>
              <a:buClr>
                <a:srgbClr val="c481cf"/>
              </a:buClr>
              <a:buSzPct val="64000"/>
              <a:buFont typeface="Arial"/>
              <a:buAutoNum type="arabicPeriod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c481cf"/>
                </a:solidFill>
                <a:latin typeface="Arial"/>
              </a:rPr>
              <a:t>http://www.gmod.org/argos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437"/>
              </a:spcBef>
              <a:buClr>
                <a:srgbClr val="c481cf"/>
              </a:buClr>
              <a:buSzPct val="64000"/>
              <a:buFont typeface="Arial"/>
              <a:buAutoNum type="arabicPeriod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ttp://eugenes.org/argos</a:t>
            </a:r>
            <a:r>
              <a:rPr b="0" lang="en-GB" sz="1800" spc="-1" strike="noStrike">
                <a:solidFill>
                  <a:srgbClr val="c481cf"/>
                </a:solidFill>
                <a:latin typeface="Arial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http://flybase.net/flybase-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587"/>
              </a:spcBef>
              <a:buClr>
                <a:srgbClr val="76b749"/>
              </a:buClr>
              <a:buFont typeface="Time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eneral cont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ommon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java/ ; perl/ -- program libraries and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ervers/ -- major programs (BLAST, PostgreSQL, other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ystems/ -- OS executables of progr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aphnia/, eugenes/, flybase/ -- </a:t>
            </a: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mplemented organism genome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entaurbase/  </a:t>
            </a: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-- test sample sys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ocs/  &amp; install/ -- Argos instructions and us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OOT/  -- common directory of projects, each is virtual host web service in ROO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title"/>
          </p:nvPr>
        </p:nvSpPr>
        <p:spPr>
          <a:xfrm>
            <a:off x="1294920" y="1522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Arial"/>
                <a:ea typeface="HG Mincho Light J"/>
              </a:rPr>
              <a:t>Argos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457200" y="2057040"/>
            <a:ext cx="8282160" cy="35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88"/>
              </a:spcBef>
              <a:buClr>
                <a:srgbClr val="76b749"/>
              </a:buClr>
              <a:buFont typeface="Time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Josh Goodman (gmo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88"/>
              </a:spcBef>
              <a:buClr>
                <a:srgbClr val="76b749"/>
              </a:buClr>
              <a:buFont typeface="Time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aul Poole (gmod/iubi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88"/>
              </a:spcBef>
              <a:buClr>
                <a:srgbClr val="76b749"/>
              </a:buClr>
              <a:buFont typeface="Time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ihar Sheth (flybas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88"/>
              </a:spcBef>
              <a:buClr>
                <a:srgbClr val="76b749"/>
              </a:buClr>
              <a:buFont typeface="Time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Victor Strelets (flybas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58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And to many developers whose work we learn from and borrow fr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title"/>
          </p:nvPr>
        </p:nvSpPr>
        <p:spPr>
          <a:xfrm>
            <a:off x="1294920" y="1522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Arial"/>
                <a:ea typeface="HG Mincho Light J"/>
              </a:rPr>
              <a:t>Thanks to these folks</a:t>
            </a:r>
            <a:r>
              <a:rPr b="0" lang="en-GB" sz="4400" spc="-1" strike="noStrike">
                <a:solidFill>
                  <a:srgbClr val="000066"/>
                </a:solidFill>
                <a:latin typeface="Arial"/>
                <a:ea typeface="HG Mincho Light J"/>
              </a:rPr>
              <a:t>	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Arial"/>
                <a:ea typeface="HG Mincho Light J"/>
              </a:rPr>
              <a:t>Argos common parts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28480" y="1523880"/>
            <a:ext cx="8079120" cy="47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587"/>
              </a:spcBef>
              <a:buClr>
                <a:srgbClr val="76b749"/>
              </a:buClr>
              <a:buFont typeface="Time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Java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common library, Ant builds, XML Tools,  Web Services (Axis), Lucene for “Google”-like sear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30000"/>
              </a:lnSpc>
              <a:spcBef>
                <a:spcPts val="587"/>
              </a:spcBef>
              <a:buClr>
                <a:srgbClr val="76b749"/>
              </a:buClr>
              <a:buFont typeface="Time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Perl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common library of BioPerl, GBrowse, ot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20000"/>
              </a:lnSpc>
              <a:spcBef>
                <a:spcPts val="587"/>
              </a:spcBef>
              <a:buClr>
                <a:srgbClr val="76b749"/>
              </a:buClr>
              <a:buFont typeface="Time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Servers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587"/>
              </a:spcBef>
              <a:buClr>
                <a:srgbClr val="c481cf"/>
              </a:buClr>
              <a:buFont typeface="Time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pache, Tomcat web serv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587"/>
              </a:spcBef>
              <a:buClr>
                <a:srgbClr val="c481cf"/>
              </a:buClr>
              <a:buFont typeface="Time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ySQL,  PostgreSQL datab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587"/>
              </a:spcBef>
              <a:buClr>
                <a:srgbClr val="c481cf"/>
              </a:buClr>
              <a:buFont typeface="Time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LAST (NCB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20000"/>
              </a:lnSpc>
              <a:spcBef>
                <a:spcPts val="587"/>
              </a:spcBef>
              <a:buClr>
                <a:srgbClr val="76b749"/>
              </a:buClr>
              <a:buFont typeface="Time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System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compiled f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587"/>
              </a:spcBef>
              <a:buClr>
                <a:srgbClr val="c481cf"/>
              </a:buClr>
              <a:buFont typeface="Time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ppl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powerpc-darwin,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ntel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linux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u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sparc-solar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4724280" y="1523880"/>
            <a:ext cx="4114800" cy="4496040"/>
            <a:chOff x="4724280" y="1523880"/>
            <a:chExt cx="4114800" cy="4496040"/>
          </a:xfrm>
        </p:grpSpPr>
        <p:sp>
          <p:nvSpPr>
            <p:cNvPr id="112" name=""/>
            <p:cNvSpPr/>
            <p:nvPr/>
          </p:nvSpPr>
          <p:spPr>
            <a:xfrm>
              <a:off x="4724280" y="1523880"/>
              <a:ext cx="4114800" cy="4496040"/>
            </a:xfrm>
            <a:custGeom>
              <a:avLst/>
              <a:gdLst>
                <a:gd name="textAreaLeft" fmla="*/ 360 w 4114800"/>
                <a:gd name="textAreaRight" fmla="*/ 4114440 w 4114800"/>
                <a:gd name="textAreaTop" fmla="*/ 360 h 4496040"/>
                <a:gd name="textAreaBottom" fmla="*/ 4495680 h 4496040"/>
              </a:gdLst>
              <a:ahLst/>
              <a:rect l="textAreaLeft" t="textAreaTop" r="textAreaRight" b="textAreaBottom"/>
              <a:pathLst>
                <a:path w="21600" h="23601">
                  <a:moveTo>
                    <a:pt x="8" y="0"/>
                  </a:moveTo>
                  <a:arcTo wR="8" hR="8" stAng="16200000" swAng="-5400000"/>
                  <a:lnTo>
                    <a:pt x="0" y="23593"/>
                  </a:lnTo>
                  <a:arcTo wR="8" hR="8" stAng="10800000" swAng="-5400000"/>
                  <a:lnTo>
                    <a:pt x="21592" y="23601"/>
                  </a:lnTo>
                  <a:arcTo wR="8" hR="8" stAng="5400000" swAng="-5400000"/>
                  <a:lnTo>
                    <a:pt x="21600" y="8"/>
                  </a:lnTo>
                  <a:arcTo wR="8" hR="8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724280" y="1523880"/>
              <a:ext cx="4114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95280" y="294840"/>
            <a:ext cx="7375680" cy="9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Arial"/>
                <a:ea typeface="HG Mincho Light J"/>
              </a:rPr>
              <a:t>Argos features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880" y="1828440"/>
            <a:ext cx="8382240" cy="49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89"/>
              </a:spcBef>
              <a:buClr>
                <a:srgbClr val="76b749"/>
              </a:buClr>
              <a:buFont typeface="Time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mon genome &amp; IT tool 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587"/>
              </a:spcBef>
              <a:buClr>
                <a:srgbClr val="c481cf"/>
              </a:buClr>
              <a:buFont typeface="Time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hare benefits of “best of breed” genome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587"/>
              </a:spcBef>
              <a:buClr>
                <a:srgbClr val="c481cf"/>
              </a:buClr>
              <a:buFont typeface="Time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mmon parts are tested &amp; maintained by ot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587"/>
              </a:spcBef>
              <a:buClr>
                <a:srgbClr val="c481cf"/>
              </a:buClr>
              <a:buFont typeface="Time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inimal IT expertise (no compiles or system manageme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89"/>
              </a:spcBef>
              <a:buClr>
                <a:srgbClr val="76b749"/>
              </a:buClr>
              <a:buFont typeface="Time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To do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for Common 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587"/>
              </a:spcBef>
              <a:buClr>
                <a:srgbClr val="c481cf"/>
              </a:buClr>
              <a:buFont typeface="Time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od-perl for Apache web server (&amp; Perl runtim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587"/>
              </a:spcBef>
              <a:buClr>
                <a:srgbClr val="c481cf"/>
              </a:buClr>
              <a:buFont typeface="Time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ore GMOD tools (Gbrowse; Cmap; 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587"/>
              </a:spcBef>
              <a:buClr>
                <a:srgbClr val="c481cf"/>
              </a:buClr>
              <a:buFont typeface="Time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90000"/>
              </a:lnSpc>
              <a:spcBef>
                <a:spcPts val="4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90000"/>
              </a:lnSpc>
              <a:spcBef>
                <a:spcPts val="4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20000"/>
              </a:lnSpc>
              <a:spcBef>
                <a:spcPts val="488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95280" y="294840"/>
            <a:ext cx="7375680" cy="9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Arial"/>
                <a:ea typeface="HG Mincho Light J"/>
              </a:rPr>
              <a:t>Argos features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ts val="3336"/>
              </a:lnSpc>
              <a:spcBef>
                <a:spcPts val="689"/>
              </a:spcBef>
              <a:buClr>
                <a:srgbClr val="76b749"/>
              </a:buClr>
              <a:buFont typeface="Time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lexible project pack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587"/>
              </a:spcBef>
              <a:buClr>
                <a:srgbClr val="c481cf"/>
              </a:buClr>
              <a:buFont typeface="Time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ject needs specify tool set (compare EnsEMBL all-in-on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587"/>
              </a:spcBef>
              <a:buClr>
                <a:srgbClr val="c481cf"/>
              </a:buClr>
              <a:buFont typeface="Time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wn look’n’feel web pages, contents,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88"/>
              </a:spcBef>
              <a:buClr>
                <a:srgbClr val="c481cf"/>
              </a:buClr>
              <a:buFont typeface="Time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curity with protected and public section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(including collaborative editing, upda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89"/>
              </a:spcBef>
              <a:buClr>
                <a:srgbClr val="76b749"/>
              </a:buClr>
              <a:buFont typeface="Time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To do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for pack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587"/>
              </a:spcBef>
              <a:buClr>
                <a:srgbClr val="c481cf"/>
              </a:buClr>
              <a:buFont typeface="Time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mprove package configu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587"/>
              </a:spcBef>
              <a:buClr>
                <a:srgbClr val="c481cf"/>
              </a:buClr>
              <a:buFont typeface="Time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ore integration of common &amp; project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587"/>
              </a:spcBef>
              <a:buClr>
                <a:srgbClr val="c481cf"/>
              </a:buClr>
              <a:buFont typeface="Time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95280" y="294840"/>
            <a:ext cx="7375680" cy="9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Arial"/>
                <a:ea typeface="HG Mincho Light J"/>
              </a:rPr>
              <a:t>Argos features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752120"/>
            <a:ext cx="85341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ts val="3336"/>
              </a:lnSpc>
              <a:spcBef>
                <a:spcPts val="689"/>
              </a:spcBef>
              <a:buClr>
                <a:srgbClr val="76b749"/>
              </a:buClr>
              <a:buFont typeface="Time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asy replication to any Unix compu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587"/>
              </a:spcBef>
              <a:buClr>
                <a:srgbClr val="c481cf"/>
              </a:buClr>
              <a:buFont typeface="Time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ve’ copy with rsync keeps servers up-to-d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587"/>
              </a:spcBef>
              <a:buClr>
                <a:srgbClr val="c481cf"/>
              </a:buClr>
              <a:buFont typeface="Time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cal cluster/grid for high-volume traff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587"/>
              </a:spcBef>
              <a:buClr>
                <a:srgbClr val="c481cf"/>
              </a:buClr>
              <a:buFont typeface="Time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orks on common workstations, lapt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89"/>
              </a:spcBef>
              <a:buClr>
                <a:srgbClr val="76b749"/>
              </a:buClr>
              <a:buFont typeface="Time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To do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for rep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587"/>
              </a:spcBef>
              <a:buClr>
                <a:srgbClr val="c481cf"/>
              </a:buClr>
              <a:buFont typeface="Time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ile sync useless for Postgres updates; transac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587"/>
              </a:spcBef>
              <a:buClr>
                <a:srgbClr val="c481cf"/>
              </a:buClr>
              <a:buFont typeface="Time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ne-click install &amp; document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587"/>
              </a:spcBef>
              <a:buClr>
                <a:srgbClr val="c481cf"/>
              </a:buClr>
              <a:buFont typeface="Time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mprove auto-update; need more post-update 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Arial"/>
                <a:ea typeface="HG Mincho Light J"/>
              </a:rPr>
              <a:t>Argos advanced features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80773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587"/>
              </a:spcBef>
              <a:buClr>
                <a:srgbClr val="76b749"/>
              </a:buClr>
              <a:buFont typeface="Time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ata mining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Genome Directory compone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88"/>
              </a:spcBef>
              <a:buClr>
                <a:srgbClr val="c481cf"/>
              </a:buClr>
              <a:buFont typeface="Time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ulfill need to search &amp; retrieve 1000s of gen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37"/>
              </a:spcBef>
              <a:buClr>
                <a:srgbClr val="c481cf"/>
              </a:buClr>
              <a:buFont typeface="Time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imple, computable, industry standards for distributed query &amp; retrieval of big data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Web Services, Grid Services, LDA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88"/>
              </a:spcBef>
              <a:buClr>
                <a:srgbClr val="c481cf"/>
              </a:buClr>
              <a:buFont typeface="Time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se to update personal, lab databases with genome link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89"/>
              </a:spcBef>
              <a:buClr>
                <a:srgbClr val="76b749"/>
              </a:buClr>
              <a:buFont typeface="Time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To do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for Data m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88"/>
              </a:spcBef>
              <a:buClr>
                <a:srgbClr val="c481cf"/>
              </a:buClr>
              <a:buFont typeface="Time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uch 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Arial"/>
                <a:ea typeface="HG Mincho Light J"/>
              </a:rPr>
              <a:t>Argos comparisons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82680" y="1889280"/>
            <a:ext cx="8493120" cy="43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89"/>
              </a:spcBef>
              <a:buClr>
                <a:srgbClr val="76b749"/>
              </a:buClr>
              <a:buFont typeface="Time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nsEMB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437"/>
              </a:spcBef>
              <a:buClr>
                <a:srgbClr val="c481cf"/>
              </a:buClr>
              <a:buFont typeface="Time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ature genome database ; built to copy and re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437"/>
              </a:spcBef>
              <a:buClr>
                <a:srgbClr val="c481cf"/>
              </a:buClr>
              <a:buFont typeface="Time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ee install instructions - not hard, but harder than auto-re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89"/>
              </a:spcBef>
              <a:buClr>
                <a:srgbClr val="76b749"/>
              </a:buClr>
              <a:buFont typeface="Time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ormBase, Grame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488"/>
              </a:spcBef>
              <a:buClr>
                <a:srgbClr val="c481cf"/>
              </a:buClr>
              <a:buFont typeface="Time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 copy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488"/>
              </a:spcBef>
              <a:buClr>
                <a:srgbClr val="76b749"/>
              </a:buClr>
              <a:buFont typeface="Time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dhat, MacOSX,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other OS package auto-upda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437"/>
              </a:spcBef>
              <a:buClr>
                <a:srgbClr val="c481cf"/>
              </a:buClr>
              <a:buFont typeface="Time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o data replication; mature; focused on system-level upd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89"/>
              </a:spcBef>
              <a:buClr>
                <a:srgbClr val="76b749"/>
              </a:buClr>
              <a:buFont typeface="Time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lobus Grid package management, PacM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437"/>
              </a:spcBef>
              <a:buClr>
                <a:srgbClr val="c481cf"/>
              </a:buClr>
              <a:buFont typeface="Time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lso offers binary program replication; install on remote systems; more configu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437"/>
              </a:spcBef>
              <a:buClr>
                <a:srgbClr val="c481cf"/>
              </a:buClr>
              <a:buFont typeface="Time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ata replication is immature (less useful than rsync, wget, ftp mirror) but includes directory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